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12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-169920">
              <a:spcBef>
                <a:spcPts val="400"/>
              </a:spcBef>
              <a:buClr>
                <a:srgbClr val="000000"/>
              </a:buClr>
              <a:buSzPct val="80000"/>
              <a:buFont typeface="Zapf Dingba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1713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1713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1713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76320" y="76320"/>
            <a:ext cx="83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07ff"/>
                </a:solidFill>
                <a:latin typeface="Courier New"/>
              </a:rPr>
              <a:t>-</a:t>
            </a:r>
            <a:fld id="{D93782C7-BBD3-4824-8564-7D90C34E35B1}" type="slidenum">
              <a:rPr b="1" lang="en-US" sz="1400" spc="-1" strike="noStrike">
                <a:solidFill>
                  <a:srgbClr val="0b07ff"/>
                </a:solidFill>
                <a:latin typeface="Courier New"/>
              </a:rPr>
              <a:t>&lt;number&gt;</a:t>
            </a:fld>
            <a:r>
              <a:rPr b="1" lang="en-US" sz="1400" spc="-1" strike="noStrike">
                <a:solidFill>
                  <a:srgbClr val="0b07ff"/>
                </a:solidFill>
                <a:latin typeface="Courier New"/>
              </a:rPr>
              <a:t>-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reeform 8"/>
          <p:cNvSpPr/>
          <p:nvPr/>
        </p:nvSpPr>
        <p:spPr>
          <a:xfrm>
            <a:off x="787320" y="0"/>
            <a:ext cx="7569360" cy="2840040"/>
          </a:xfrm>
          <a:prstGeom prst="pie">
            <a:avLst/>
          </a:prstGeom>
          <a:solidFill>
            <a:srgbClr val="fff05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s of Interest (ROI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ose interested in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Cloud Callout 3"/>
          <p:cNvSpPr/>
          <p:nvPr/>
        </p:nvSpPr>
        <p:spPr>
          <a:xfrm>
            <a:off x="1600200" y="3200400"/>
            <a:ext cx="5410080" cy="1828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438280" y="3657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ddy, where do little ROIs come from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057400" y="5048280"/>
            <a:ext cx="1506600" cy="18097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373392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85800" y="380880"/>
            <a:ext cx="80010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5572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e9130b"/>
                </a:solidFill>
                <a:latin typeface="Courier New"/>
                <a:ea typeface="ＭＳ Ｐゴシック"/>
              </a:rPr>
              <a:t>[</a:t>
            </a:r>
            <a:r>
              <a:rPr b="1" lang="en-US" sz="1800" spc="-1" strike="noStrike" u="sng">
                <a:solidFill>
                  <a:srgbClr val="0602ff"/>
                </a:solidFill>
                <a:uFillTx/>
                <a:latin typeface="Courier New"/>
                <a:ea typeface="ＭＳ Ｐゴシック"/>
              </a:rPr>
              <a:t>Flood</a:t>
            </a:r>
            <a:r>
              <a:rPr b="1" lang="en-US" sz="1800" spc="-1" strike="noStrike" u="sng">
                <a:solidFill>
                  <a:srgbClr val="0602ff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1800" spc="-1" strike="noStrike" u="sng">
                <a:solidFill>
                  <a:srgbClr val="0602ff"/>
                </a:solidFill>
                <a:uFillTx/>
                <a:latin typeface="Courier New"/>
                <a:ea typeface="ＭＳ Ｐゴシック"/>
              </a:rPr>
              <a:t>Value</a:t>
            </a:r>
            <a:r>
              <a:rPr b="1" lang="en-US" sz="1800" spc="-1" strike="noStrike">
                <a:solidFill>
                  <a:srgbClr val="e9130b"/>
                </a:solidFill>
                <a:latin typeface="Courier New"/>
                <a:ea typeface="ＭＳ Ｐゴシック"/>
              </a:rPr>
              <a:t>]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od fills space outward from the drawing point, stopping when the flood hits the current drawing value (used to fill a closed curve)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e9130b"/>
                </a:solidFill>
                <a:latin typeface="Courier New"/>
                <a:ea typeface="ＭＳ Ｐゴシック"/>
              </a:rPr>
              <a:t>[</a:t>
            </a:r>
            <a:r>
              <a:rPr b="1" lang="en-US" sz="1800" spc="-1" strike="noStrike" u="sng">
                <a:solidFill>
                  <a:srgbClr val="0602ff"/>
                </a:solidFill>
                <a:uFillTx/>
                <a:latin typeface="Courier New"/>
                <a:ea typeface="ＭＳ Ｐゴシック"/>
              </a:rPr>
              <a:t>Flood Nonzero</a:t>
            </a:r>
            <a:r>
              <a:rPr b="1" lang="en-US" sz="1800" spc="-1" strike="noStrike">
                <a:solidFill>
                  <a:srgbClr val="e9130b"/>
                </a:solidFill>
                <a:latin typeface="Courier New"/>
                <a:ea typeface="ＭＳ Ｐゴシック"/>
              </a:rPr>
              <a:t>]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wing action produces a continuous closed-ended curve (filled inside)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e9130b"/>
                </a:solidFill>
                <a:latin typeface="Courier New"/>
                <a:ea typeface="ＭＳ Ｐゴシック"/>
              </a:rPr>
              <a:t>[</a:t>
            </a:r>
            <a:r>
              <a:rPr b="1" lang="en-US" sz="1800" spc="-1" strike="noStrike" u="sng">
                <a:solidFill>
                  <a:srgbClr val="0602ff"/>
                </a:solidFill>
                <a:uFillTx/>
                <a:latin typeface="Courier New"/>
                <a:ea typeface="ＭＳ Ｐゴシック"/>
              </a:rPr>
              <a:t>Zero</a:t>
            </a:r>
            <a:r>
              <a:rPr b="1" lang="en-US" sz="1800" spc="-1" strike="noStrike" u="sng">
                <a:solidFill>
                  <a:srgbClr val="0602ff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1800" spc="-1" strike="noStrike" u="sng">
                <a:solidFill>
                  <a:srgbClr val="0602ff"/>
                </a:solidFill>
                <a:uFillTx/>
                <a:latin typeface="Courier New"/>
                <a:ea typeface="ＭＳ Ｐゴシック"/>
              </a:rPr>
              <a:t>Value</a:t>
            </a:r>
            <a:r>
              <a:rPr b="1" lang="en-US" sz="1800" spc="-1" strike="noStrike">
                <a:solidFill>
                  <a:srgbClr val="e9130b"/>
                </a:solidFill>
                <a:latin typeface="Courier New"/>
                <a:ea typeface="ＭＳ Ｐゴシック"/>
              </a:rPr>
              <a:t>]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ods voxels with zero until the flood hits nonzero voxels (you can also do this more easily with Filled Curve, value=0)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e9130b"/>
                </a:solidFill>
                <a:latin typeface="Courier New"/>
                <a:ea typeface="ＭＳ Ｐゴシック"/>
              </a:rPr>
              <a:t>[</a:t>
            </a:r>
            <a:r>
              <a:rPr b="1" lang="en-US" sz="1800" spc="-1" strike="noStrike" u="sng">
                <a:solidFill>
                  <a:srgbClr val="0602ff"/>
                </a:solidFill>
                <a:uFillTx/>
                <a:latin typeface="Courier New"/>
                <a:ea typeface="ＭＳ Ｐゴシック"/>
              </a:rPr>
              <a:t>Flood</a:t>
            </a:r>
            <a:r>
              <a:rPr b="1" lang="en-US" sz="1800" spc="-1" strike="noStrike" u="sng">
                <a:solidFill>
                  <a:srgbClr val="0602ff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1800" spc="-1" strike="noStrike" u="sng">
                <a:solidFill>
                  <a:srgbClr val="0602ff"/>
                </a:solidFill>
                <a:uFillTx/>
                <a:latin typeface="Courier New"/>
                <a:ea typeface="ＭＳ Ｐゴシック"/>
              </a:rPr>
              <a:t>Nonzero</a:t>
            </a:r>
            <a:r>
              <a:rPr b="1" lang="en-US" sz="1800" spc="-1" strike="noStrike">
                <a:solidFill>
                  <a:srgbClr val="e9130b"/>
                </a:solidFill>
                <a:latin typeface="Courier New"/>
                <a:ea typeface="ＭＳ Ｐゴシック"/>
              </a:rPr>
              <a:t>]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od fills outwards from drawn point, stopping when the flood hits any nonzero voxel (used to fill between regions):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569880" indent="-22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mportant 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ROI is defined by the values stored in voxels of the ‘mask’ dataset</a:t>
            </a:r>
            <a:endParaRPr b="0" lang="en-US" sz="1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Is do not need to have contiguous voxels – they can be scattered</a:t>
            </a:r>
            <a:endParaRPr b="0" lang="en-US" sz="1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voxels are in the same ROI if they have the same value in the mask dataset (i.e., it doesn’t matter where they are located in the volume)</a:t>
            </a:r>
            <a:endParaRPr b="0" lang="en-US" sz="1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855720" indent="-17136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69880" indent="-2221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Actually draw someth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rawing is done with mouse Button 2 (“middle” button) in 2D slice im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ld the button down in the image window during a single drawing a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ile the drawing action is happening, the chosen drawing color will trace the screen pixels you draw o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n you release the button, these pixels are converted to voxels, and the dataset is actually changed, using the drawing value and drawing mode you selec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 this point, the color of the drawn region will change to reflect the drawing value and the setup of the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Define OverLay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ol pa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Undo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button will let you take back the last drawing action (you can go “undo” many levels back, i.e., multiple undo functi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 can draw on one 2D slice image at a 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you draw on a montage display, only screen pixels overlaying the first image you Button 2 click in will cou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ile drawing, if you cross over between sub-images in the montage, unexpected effects will res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-1699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Zapf Dingba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ut there is always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Undo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o the rescu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0760" indent="-230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tep 3: Save your resul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Save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will write the current dataset values to disk (overwriting any existing .BRIK file, i.e., if you had edited this ROI earlier, the new changes would overwrite the old fil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47080" indent="-1695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 could also then choose another dataset to ed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Save As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will let you write the current dataset to disk under a new name, creating a new dataset, then continue editing the new datas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Quit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xits editing and closes the plugin window, without saving to disk any changes since the last [Save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47080" indent="-1695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iting AFNI has the same effe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Done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equivalent to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Save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Quit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ptional Drawing Step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Linear Fillin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lets you draw a 3D ROI not in every slice, but in every third slice (say), and then go back and fill in the ga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47080" indent="-1695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 example, if you draw in coronal slices, then you want to fill in the   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A-P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direction (the defaul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47080" indent="-1695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you draw every nth slice, then you want to set the Gap to n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47080" indent="-1695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e segments of voxels in the fillin direction that have a current drawing value at each end, and have no more than [Gap] zero voxels in between, will get their gap voxels filled with the drawing val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28240" indent="-1681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Zapf Dingba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fter you try this, you will probably have to touch up the dataset manu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47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operation can also be done with progra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dRowFill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hich creates a new data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TT Atlas Region to Load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ets you load regions from the Talairach Daemon database into the dataset vox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s that you be drawing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tlr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ordinates, or at least have a transformation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ori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tlr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uted in the current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a region to draw into the dataset (e.g., Hippocamp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Load: Overwrite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fill all voxels in the region with the drawing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Load: Infill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fill only voxels in the region that are currently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-169920">
              <a:spcBef>
                <a:spcPts val="400"/>
              </a:spcBef>
              <a:buClr>
                <a:srgbClr val="000000"/>
              </a:buClr>
              <a:buSzPct val="80000"/>
              <a:buFont typeface="Zapf Dingba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probably want to edit the results manually to fit the specific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rawing and Volume Rendering at the Same 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otally fun, and maybe usefu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not draw into the rendering plugin, but you can use it to see in 3D what you are drawing in 2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ou meet the criteria for rendering (usually 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tlr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ordina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set up the render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the underlay to be the current anatomical dataset (or a “scalped” version, fro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3dSkullStr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3dIntracran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the overlay dataset to be the dataset you are e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 on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See Overlay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Color Opacity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ShowThru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+Dc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5720" indent="-171360">
              <a:spcBef>
                <a:spcPts val="451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on </a:t>
            </a:r>
            <a:r>
              <a:rPr b="1" lang="en-US" sz="18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800" spc="-1" strike="noStrike" u="sng">
                <a:solidFill>
                  <a:srgbClr val="0602ff"/>
                </a:solidFill>
                <a:uFillTx/>
                <a:latin typeface="Courier New"/>
              </a:rPr>
              <a:t>DynaDraw</a:t>
            </a:r>
            <a:r>
              <a:rPr b="1" lang="en-US" sz="1800" spc="-1" strike="noStrike">
                <a:solidFill>
                  <a:srgbClr val="e9130b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51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ing in a 2D image window immediately triggers a redraw in the rendering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 the 2D and 3D overlay datasets are the s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51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only useful if your computer is fast enough to render quickly (&lt;1 sec per fr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cox_rendered.jpg                                               000271B3Macintosh HD                   B74677AA:"/>
          <p:cNvPicPr/>
          <p:nvPr/>
        </p:nvPicPr>
        <p:blipFill>
          <a:blip r:embed="rId1"/>
          <a:stretch/>
        </p:blipFill>
        <p:spPr>
          <a:xfrm>
            <a:off x="2895480" y="2743200"/>
            <a:ext cx="3505320" cy="3505320"/>
          </a:xfrm>
          <a:prstGeom prst="rect">
            <a:avLst/>
          </a:prstGeom>
          <a:ln w="22320">
            <a:solidFill>
              <a:srgbClr val="ff00ff"/>
            </a:solidFill>
            <a:miter/>
          </a:ln>
        </p:spPr>
      </p:pic>
      <p:sp>
        <p:nvSpPr>
          <p:cNvPr id="129" name="Rectangle 5"/>
          <p:cNvSpPr/>
          <p:nvPr/>
        </p:nvSpPr>
        <p:spPr>
          <a:xfrm>
            <a:off x="214200" y="2325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5"/>
          <p:cNvSpPr/>
          <p:nvPr/>
        </p:nvSpPr>
        <p:spPr>
          <a:xfrm>
            <a:off x="5334120" y="3581280"/>
            <a:ext cx="1523880" cy="152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5257800" cy="76212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to Do with ROI Dataset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o matter how you create th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Is are used on a voxel-by-voxel basis to select parts of datasets (usually functional dataset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you draw at the anatomical resolution and want to use the ROI dataset at the functional resolution, you probably want to convert the high-resolution ROI dataset to a low-resolution dataset (unless you’re working 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+tl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ordina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.g., hi-res anatomical ROI resampled to low-res functional datase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voxel inside the ROI is given a nonzero value (e.g., 4; values outside the ROI are zeros.  When the resolution is changed, what do you do with a voxel that’s only partially filled by the ROI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22096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2209680" y="35812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1828800" y="3962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2209680" y="39625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2590920" y="4343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Rectangle 46"/>
          <p:cNvSpPr/>
          <p:nvPr/>
        </p:nvSpPr>
        <p:spPr>
          <a:xfrm>
            <a:off x="1828800" y="3581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0" name="Rectangle 49"/>
          <p:cNvSpPr/>
          <p:nvPr/>
        </p:nvSpPr>
        <p:spPr>
          <a:xfrm>
            <a:off x="2209680" y="4343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2209680" y="47242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2" name="Text Box 81"/>
          <p:cNvSpPr/>
          <p:nvPr/>
        </p:nvSpPr>
        <p:spPr>
          <a:xfrm>
            <a:off x="1447920" y="3200400"/>
            <a:ext cx="2286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-res voxel matrix</a:t>
            </a:r>
            <a:endParaRPr b="0" lang="en-US" sz="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3" name="Text Box 82"/>
          <p:cNvSpPr/>
          <p:nvPr/>
        </p:nvSpPr>
        <p:spPr>
          <a:xfrm>
            <a:off x="4952880" y="3200400"/>
            <a:ext cx="2286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w-res voxel matrix</a:t>
            </a:r>
            <a:endParaRPr b="0" lang="en-US" sz="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4" name="AutoShape 83"/>
          <p:cNvSpPr/>
          <p:nvPr/>
        </p:nvSpPr>
        <p:spPr>
          <a:xfrm>
            <a:off x="3886200" y="419112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5" name="Rectangle 84"/>
          <p:cNvSpPr/>
          <p:nvPr/>
        </p:nvSpPr>
        <p:spPr>
          <a:xfrm>
            <a:off x="2590920" y="4724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6" name="Line 57"/>
          <p:cNvSpPr/>
          <p:nvPr/>
        </p:nvSpPr>
        <p:spPr>
          <a:xfrm>
            <a:off x="2209680" y="3581280"/>
            <a:ext cx="0" cy="1524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2590920" y="3581280"/>
            <a:ext cx="0" cy="1524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2971800" y="3581280"/>
            <a:ext cx="0" cy="1524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1828800" y="4343400"/>
            <a:ext cx="15238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1828800" y="4724280"/>
            <a:ext cx="15238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1828800" y="3962520"/>
            <a:ext cx="15238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2" name="Rectangle 88"/>
          <p:cNvSpPr/>
          <p:nvPr/>
        </p:nvSpPr>
        <p:spPr>
          <a:xfrm>
            <a:off x="5334120" y="3581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3" name="Rectangle 89"/>
          <p:cNvSpPr/>
          <p:nvPr/>
        </p:nvSpPr>
        <p:spPr>
          <a:xfrm>
            <a:off x="5715000" y="3581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4" name="Rectangle 90"/>
          <p:cNvSpPr/>
          <p:nvPr/>
        </p:nvSpPr>
        <p:spPr>
          <a:xfrm>
            <a:off x="5334120" y="3962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5" name="Rectangle 91"/>
          <p:cNvSpPr/>
          <p:nvPr/>
        </p:nvSpPr>
        <p:spPr>
          <a:xfrm>
            <a:off x="5715000" y="3962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6" name="Rectangle 92"/>
          <p:cNvSpPr/>
          <p:nvPr/>
        </p:nvSpPr>
        <p:spPr>
          <a:xfrm>
            <a:off x="5715000" y="4343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7" name="Rectangle 93"/>
          <p:cNvSpPr/>
          <p:nvPr/>
        </p:nvSpPr>
        <p:spPr>
          <a:xfrm>
            <a:off x="5715000" y="4724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8" name="Rectangle 94"/>
          <p:cNvSpPr/>
          <p:nvPr/>
        </p:nvSpPr>
        <p:spPr>
          <a:xfrm>
            <a:off x="6095880" y="47242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9" name="Rectangle 95"/>
          <p:cNvSpPr/>
          <p:nvPr/>
        </p:nvSpPr>
        <p:spPr>
          <a:xfrm>
            <a:off x="6095880" y="4343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0" name="Line 86"/>
          <p:cNvSpPr/>
          <p:nvPr/>
        </p:nvSpPr>
        <p:spPr>
          <a:xfrm>
            <a:off x="6095880" y="3581280"/>
            <a:ext cx="0" cy="1524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1" name="Line 87"/>
          <p:cNvSpPr/>
          <p:nvPr/>
        </p:nvSpPr>
        <p:spPr>
          <a:xfrm>
            <a:off x="5334120" y="4343400"/>
            <a:ext cx="15238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dfractioniz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does this resolution convers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5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3dfractionize  -template low_res_dset+orig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\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-input ROI_high_res+orig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\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-clip 0.5 -preserve -prefix ROI_low_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400"/>
              </a:spcBef>
              <a:buClr>
                <a:srgbClr val="0602ff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templ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destination grid you want your ROI grid to be resampled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e’re going from high to low resolution here).  Our output datas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I_low_res+ori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be written at the resolu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+o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10000"/>
              </a:lnSpc>
              <a:spcBef>
                <a:spcPts val="400"/>
              </a:spcBef>
              <a:buClr>
                <a:srgbClr val="0602ff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inp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es the input high-resolution dataset (that needs to be convert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high resolution to low resolu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400"/>
              </a:spcBef>
              <a:buClr>
                <a:srgbClr val="0602ff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clip 0.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put voxels will only get a nonzero value if they are at least 50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d by nonzero input voxels (you decide the percentage here). E.g., wh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ing from high to low res, keep a label a voxel as part of the ROI if it is fil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t least 50% (or more) of the voxel value.  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2286000" y="57913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286000" y="495288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2286000" y="4952880"/>
            <a:ext cx="3808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2743200" y="5003640"/>
            <a:ext cx="3962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s voxel is 80% filled with the ROI value -- keep it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5791320"/>
            <a:ext cx="1522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2743200" y="5842080"/>
            <a:ext cx="3962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s voxel is 30% filled with the ROI value -- lose it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69880" indent="-222120">
              <a:lnSpc>
                <a:spcPct val="90000"/>
              </a:lnSpc>
              <a:spcBef>
                <a:spcPts val="400"/>
              </a:spcBef>
              <a:buClr>
                <a:srgbClr val="0602ff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-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preser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ce it has been determined that the output voxel will be part o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OI, preserve the original ROI value of that voxel (and not so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of that value).  This option also allows for "voting" – determine the RO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would most fill that voxel. For example, if our ROI mask has values of “4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dresamp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does conversion too but you have less controls for handling partial overlap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3dresample -master low_res_dset+orig  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\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   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-prefix ROI_low_res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\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   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-inset ROI_high_res+orig 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\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   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-rmode N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mas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the destination grid we want our ROI mask resample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prefi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The output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dres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- in this example, a low resolution RO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mask that corresponds with the voxel resolution of our master data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in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The ROI mask dataset that is being resampled from high to low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rmode N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If a voxel’s “neighbor” is included in the ROI mask, include the voxe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in question as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057400" y="16002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2057400" y="1600200"/>
            <a:ext cx="3808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666880" y="1371600"/>
            <a:ext cx="52578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s voxel is 80% filled with the ROI value -- keep it. 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preserv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option, this voxel would be given a value of “3.2” (i.e., 80% of “4”).  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preserv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it is labeled as “4”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9" descr="lores_anat_roi.jpg   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4724280" y="3886200"/>
            <a:ext cx="3505320" cy="1571760"/>
          </a:xfrm>
          <a:prstGeom prst="rect">
            <a:avLst/>
          </a:prstGeom>
          <a:ln w="15840">
            <a:solidFill>
              <a:srgbClr val="ff00ff"/>
            </a:solidFill>
            <a:miter/>
          </a:ln>
        </p:spPr>
      </p:pic>
      <p:pic>
        <p:nvPicPr>
          <p:cNvPr id="174" name="Picture 18" descr="hires_anat_roi.jpg                                             005B80A9Macintosh HD                   BE74DD3D:"/>
          <p:cNvPicPr/>
          <p:nvPr/>
        </p:nvPicPr>
        <p:blipFill>
          <a:blip r:embed="rId2"/>
          <a:stretch/>
        </p:blipFill>
        <p:spPr>
          <a:xfrm>
            <a:off x="1828800" y="3524400"/>
            <a:ext cx="2362320" cy="2342880"/>
          </a:xfrm>
          <a:prstGeom prst="rect">
            <a:avLst/>
          </a:prstGeom>
          <a:ln w="15840">
            <a:solidFill>
              <a:srgbClr val="ff00ff"/>
            </a:solidFill>
            <a:miter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0760" indent="-230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’s do a class example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dres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cd AFNI_data6/roi_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3dresample -master rall_vr+orig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prefix anat_roi_resam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inset anat_roi+orig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rmode 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class example, we want to take our ROI mask, which has a high voxel resolution of 0.9 x 0.9 x 1.2 mm, and resample to it the lower resolution of the time-series dataset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ll_vr+ori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2.75 x 2.75 x 3.0m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752480" y="586728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fore, overlay ROI is: </a:t>
            </a:r>
            <a:r>
              <a:rPr b="1" lang="en-US" sz="1400" spc="-1" strike="noStrike">
                <a:solidFill>
                  <a:srgbClr val="0602ff"/>
                </a:solidFill>
                <a:latin typeface="Courier New"/>
              </a:rPr>
              <a:t>anat_roi+ori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0.9x0.9x1.2 mm voxel grid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5181480" y="5867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ter, overlay ROI is: </a:t>
            </a:r>
            <a:r>
              <a:rPr b="1" lang="en-US" sz="1400" spc="-1" strike="noStrike">
                <a:solidFill>
                  <a:srgbClr val="0602ff"/>
                </a:solidFill>
                <a:latin typeface="Courier New"/>
              </a:rPr>
              <a:t>anat_roi_resam+ori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.75x2.75x3.0 voxel grid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3429000" y="4343400"/>
            <a:ext cx="304920" cy="380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7086600" y="4724280"/>
            <a:ext cx="380880" cy="3812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6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dmask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ROI program computes the average of voxels (usually from a functional or time-series dataset), that are selected from an ROI m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teractive version: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ROI A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lug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3dmaskave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mask anat_roi_resam+orig  -q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rall_vr+orig &gt; epi_avg.1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807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419720" y="3048120"/>
            <a:ext cx="4572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bove command takes the voxels that fall within the ROI mask, and computes a mean for every time point/volume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example, there are 450 time-points in this dataset, so the output will be a column of 450 means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-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Suppresses the voxel-count output (e.g.,   “[9 voxels] make up the ROI mask”) from appearing next to each mean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rnatively, instead of having the results 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dmaska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pewed into the shell, you can redirect (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 the results into a text file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pi_avg.1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nd save them for later use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82" name="Picture 15" descr="lores_anat_roi.jpg   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457200" y="3657600"/>
            <a:ext cx="3886200" cy="1743120"/>
          </a:xfrm>
          <a:prstGeom prst="rect">
            <a:avLst/>
          </a:prstGeom>
          <a:ln w="15840">
            <a:solidFill>
              <a:srgbClr val="ff00ff"/>
            </a:solidFill>
            <a:miter/>
          </a:ln>
        </p:spPr>
      </p:pic>
      <p:sp>
        <p:nvSpPr>
          <p:cNvPr id="183" name="Oval 16"/>
          <p:cNvSpPr/>
          <p:nvPr/>
        </p:nvSpPr>
        <p:spPr>
          <a:xfrm>
            <a:off x="3048120" y="4572000"/>
            <a:ext cx="457200" cy="45720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4" name="Line 9"/>
          <p:cNvSpPr/>
          <p:nvPr/>
        </p:nvSpPr>
        <p:spPr>
          <a:xfrm flipH="1">
            <a:off x="3504960" y="3581280"/>
            <a:ext cx="990360" cy="9907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3505320" y="2971800"/>
            <a:ext cx="20574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RO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0760" indent="-230760"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ROI is  a "region of interest" usually used as a mask of vox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FNI, ROIs are stored as any other dataset (.HEAD/.BRIK, .nii, ...) , typically with positive integer values for voxels to consi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 values are outside the ma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values are inside the m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19600"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spcBef>
                <a:spcPts val="40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spcBef>
                <a:spcPts val="40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any dataset can be considered as an ROI if it is non-zero in areas in which you are inter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spcBef>
                <a:spcPts val="40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ally stored as byte integers to save disk space an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784680" y="3200400"/>
            <a:ext cx="1574640" cy="1574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6172200" y="3276720"/>
            <a:ext cx="380880" cy="3808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172200" y="4267080"/>
            <a:ext cx="38088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781680" y="30481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xel with value of 0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781680" y="4013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xel with value of 1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572000" y="322272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4952880" y="3222720"/>
            <a:ext cx="38124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560840" y="360360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952880" y="3603600"/>
            <a:ext cx="38124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4952880" y="3984480"/>
            <a:ext cx="38124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4952880" y="4365720"/>
            <a:ext cx="38124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3809880" y="3984480"/>
            <a:ext cx="38124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3809880" y="4365720"/>
            <a:ext cx="38124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69880" indent="-22212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tput will look like this (450 means in the column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more epi_avg.1D </a:t>
            </a:r>
            <a:r>
              <a:rPr b="0" lang="en-US" sz="1600" spc="-1" strike="noStrike">
                <a:solidFill>
                  <a:srgbClr val="0602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602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602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76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86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92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97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84.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a can also be plotted out using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1dplo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1dplot epi_avg.1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or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1dplot -yaxis 1000:1200:2:1 epi_avg.1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095880" y="914400"/>
            <a:ext cx="1371600" cy="1600200"/>
          </a:xfrm>
          <a:prstGeom prst="rect">
            <a:avLst/>
          </a:prstGeom>
          <a:noFill/>
          <a:ln w="15840">
            <a:solidFill>
              <a:srgbClr val="080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200400" y="634032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0a3c"/>
                </a:solidFill>
                <a:latin typeface="Arial"/>
              </a:rPr>
              <a:t>3 concatenated EPI runs, Timepoints (0-449)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88" name="Picture 24" descr="3dmaskave_1dplot.jpg 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1295280" y="3502080"/>
            <a:ext cx="7391520" cy="2822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380880" y="4038480"/>
            <a:ext cx="1143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0a3c"/>
                </a:solidFill>
                <a:latin typeface="Arial"/>
              </a:rPr>
              <a:t>Mean voxel intensity for voxels falling within the ROI mask (at each timepoint).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6" descr="Vrel-tstats.jpg      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5562720" y="3894120"/>
            <a:ext cx="2438280" cy="243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5" descr="hires_anat_roi.jpg                                             005B80A9Macintosh HD                   BE74DD3D:"/>
          <p:cNvPicPr/>
          <p:nvPr/>
        </p:nvPicPr>
        <p:blipFill>
          <a:blip r:embed="rId2"/>
          <a:stretch/>
        </p:blipFill>
        <p:spPr>
          <a:xfrm>
            <a:off x="1143000" y="3886200"/>
            <a:ext cx="2438280" cy="24177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3160" y="6854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dmask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that dumps out all voxel values in a dataset that fall within the ROI of a given mask data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3dmaskdump -noijk -mask anat_roi_resam+orig        \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    ‘func_slim+orig[2]’ &gt; Vrel-tstat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put appears in the shell (unless you redirect it (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nto a text file).  This example shows one column of numbers, representing the voxel values for functional sub-brick #2 (‘Visual-reliable’ t-values) that fall within the ROI mas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809880" y="4038480"/>
            <a:ext cx="1600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0a3c"/>
                </a:solidFill>
                <a:latin typeface="Arial"/>
              </a:rPr>
              <a:t>Dump out the voxel values from the functional dataset, sub-brick #2, but only for those voxels that fall  within the ROI mask.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7086600" y="4495680"/>
            <a:ext cx="457200" cy="6098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5" name="Line 13"/>
          <p:cNvSpPr/>
          <p:nvPr/>
        </p:nvSpPr>
        <p:spPr>
          <a:xfrm flipV="1">
            <a:off x="5105520" y="4952880"/>
            <a:ext cx="1981080" cy="763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2819520" y="4648320"/>
            <a:ext cx="304560" cy="45720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3123720" y="4343400"/>
            <a:ext cx="83844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572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one sub-brick can be chosen at a time (e.g., func_slim+orig’[2,4-6'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applic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dmaskdu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o dump out the data or functional values that match an ROI so they can be processed in some other program (e.g., Microsoft Exc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noij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ption is omitted, each output line starts with ijk-indexes (i.e., location) of the vo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-16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Zapf Dingba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3dUndu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to create a dataset from a text file with ijk-indexes and datase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dROI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to compute separate statistic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ROI in a data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Mean can be computed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ver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O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ely and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iffer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dmaska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cause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Is within a single mask are not collaps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n averaged.  Here the averages a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parate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each ROI within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k data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ing is done over each region defined b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a distinct numerical value in the ROI data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562720" y="5715000"/>
            <a:ext cx="3200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40a3c"/>
                </a:solidFill>
                <a:latin typeface="HellasTimes2"/>
              </a:rPr>
              <a:t>ROI 1: Left Superior Occip. Gyrus (blue)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40a3c"/>
                </a:solidFill>
                <a:latin typeface="HellasTimes2"/>
              </a:rPr>
              <a:t>ROI 2: Left Middle Occip. Gyrus (red)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40a3c"/>
                </a:solidFill>
                <a:latin typeface="HellasTimes2"/>
              </a:rPr>
              <a:t>ROI 3: Left Inferior Occip. Gyrus (yellow)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251760" y="2590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3rois+orig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01" name="Picture 13" descr=" 3rois.jpg            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5732640" y="2895480"/>
            <a:ext cx="2725560" cy="2719440"/>
          </a:xfrm>
          <a:prstGeom prst="rect">
            <a:avLst/>
          </a:prstGeom>
          <a:ln w="158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69880" indent="-2221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3dROIstats -mask 3rois+orig func_slim+orig’[0]’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tput shown in the shell (use </a:t>
            </a:r>
            <a:r>
              <a:rPr b="1" lang="en-US" sz="1700" spc="-1" strike="noStrike">
                <a:solidFill>
                  <a:srgbClr val="0602ff"/>
                </a:solidFill>
                <a:latin typeface="Arial"/>
              </a:rPr>
              <a:t>&gt;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mmand to save into to a text file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File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  Sub-brick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Mean_1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 Mean_2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  Mean_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func_slim+orig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0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10.806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 69.337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80799"/>
                </a:solidFill>
                <a:latin typeface="Courier New"/>
              </a:rPr>
              <a:t>  71.33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ean_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lumn is the average over the ROI whose mask value is “1”.  The average is calculated for voxels from our functional dataset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unc_slim+ori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that fall within the ROI.  Averages are computed at sub-brick #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-1699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Zapf Dingba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s have also been computed for ROIs whose mask value is “2” (Mean_2) and “3” (Mean_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useful if you create ROI masks for a number of subjects, using the same number codes for the same anatomical regions (e.g., 1=hippocampus, 2=amygdala, 3=superior temporal gyru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load the output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dROIsta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o a spreadsheet for further analysis (e.g., statistics with other subjects’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95280" y="1752480"/>
            <a:ext cx="6934320" cy="9907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238880" cy="5335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reating ROI datasets from Activation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25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I masks derived from functional data can be made by finding contiguous supra (above) threshold voxel clusters in an activation (functional) map and then converting each cluster into a ROI with a separate data val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ROIs can then be used as starting points for som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cd AFNI_data6/roi_de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launch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afni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’s pick select some criteria that will determine how bi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our voxel clusters will be.  Any voxels that survive the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criteria will be part of our ROI mask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UnderLa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at+ori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OverLa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_slim+ori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 Define OLay &amp; Threshol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-brick 0 (Full-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 Set Threshold to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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9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 To be part of a cluster, voxels must be righ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next to each other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mm = 2.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 Clusters must be 200+ voxels in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75 x 2.75 x 3.0 = 22.69 x 200 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mul = 45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DefOLay_GUI.jpg      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6019920" y="2971800"/>
            <a:ext cx="2948040" cy="3048120"/>
          </a:xfrm>
          <a:prstGeom prst="rect">
            <a:avLst/>
          </a:prstGeom>
          <a:ln w="158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3dclu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25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program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Courier New"/>
              </a:rPr>
              <a:t>3dclus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looks for clusters of activity that fit the criteria set on the command line, and prints out a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bout the active voxels that make up the ROI cluster(s) -- similar to 3dmerge (coming up a little later), but creates a report instead of a new datas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25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3dclust  -1clip 99.0 2.75 4538 func_slim+orig.’[0]’</a:t>
            </a: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02ff"/>
                </a:solidFill>
                <a:latin typeface="Courier New"/>
              </a:rPr>
              <a:t>3dclust  -dxyz=1 -1clip 99.0 1 200 func_slim+orig.’[0]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above command tells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3dclus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o find potential cluster volumes for dataset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unc_slim+ori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sub-brick #0, where the threshold has been set to 99.0 (i.e., ignore voxels with an activation threshold &lt;99.0).  Voxels must be no more than 2.75mm apart, and cluster volume must be at least 4538 micro-liters in size (if using the -dxyz=1 option, voxels will be no more than 1mm apart and vmul will be 200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ce these ROI clusters have been identified, a report will be printed ou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6" descr="3dclust_output.jpg   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533520" y="5411880"/>
            <a:ext cx="8210520" cy="912600"/>
          </a:xfrm>
          <a:prstGeom prst="rect">
            <a:avLst/>
          </a:prstGeom>
          <a:ln w="12600">
            <a:solidFill>
              <a:srgbClr val="0807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Clusteriz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Courier New"/>
              </a:rPr>
              <a:t>Clusteriz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button on the main AFNI graphical interface gives users a quick and easy way to locate clusters of activity in a functional dataset.  Once the user sets the clusterize parameters, a complete cluster “report” is given, which details the number of clusters found, based on these paramet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Clusterize.jpg       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4495680" y="2057400"/>
            <a:ext cx="3048120" cy="2768760"/>
          </a:xfrm>
          <a:prstGeom prst="rect">
            <a:avLst/>
          </a:prstGeom>
          <a:ln w="15840">
            <a:solidFill>
              <a:srgbClr val="ff00ff"/>
            </a:solidFill>
            <a:miter/>
          </a:ln>
        </p:spPr>
      </p:pic>
      <p:pic>
        <p:nvPicPr>
          <p:cNvPr id="211" name="Picture 6" descr="DefOLay_GUI2.jpg                                               005B80A9Macintosh HD                   BE74DD3D:"/>
          <p:cNvPicPr/>
          <p:nvPr/>
        </p:nvPicPr>
        <p:blipFill>
          <a:blip r:embed="rId2"/>
          <a:stretch/>
        </p:blipFill>
        <p:spPr>
          <a:xfrm>
            <a:off x="457200" y="2438280"/>
            <a:ext cx="3581280" cy="3251160"/>
          </a:xfrm>
          <a:prstGeom prst="rect">
            <a:avLst/>
          </a:prstGeom>
          <a:ln w="15840">
            <a:solidFill>
              <a:srgbClr val="ff00ff"/>
            </a:solidFill>
            <a:miter/>
          </a:ln>
        </p:spPr>
      </p:pic>
      <p:pic>
        <p:nvPicPr>
          <p:cNvPr id="212" name="Picture 7" descr="Clusterize_report.jpg                                          005B80A9Macintosh HD                   BE74DD3D:"/>
          <p:cNvPicPr/>
          <p:nvPr/>
        </p:nvPicPr>
        <p:blipFill>
          <a:blip r:embed="rId3"/>
          <a:stretch/>
        </p:blipFill>
        <p:spPr>
          <a:xfrm>
            <a:off x="4419720" y="4952880"/>
            <a:ext cx="3760560" cy="1749600"/>
          </a:xfrm>
          <a:prstGeom prst="rect">
            <a:avLst/>
          </a:prstGeom>
          <a:ln w="15840">
            <a:solidFill>
              <a:srgbClr val="ff00ff"/>
            </a:solidFill>
            <a:miter/>
          </a:ln>
        </p:spPr>
      </p:pic>
      <p:sp>
        <p:nvSpPr>
          <p:cNvPr id="213" name="Line 8"/>
          <p:cNvSpPr/>
          <p:nvPr/>
        </p:nvSpPr>
        <p:spPr>
          <a:xfrm>
            <a:off x="3581280" y="2819520"/>
            <a:ext cx="83844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3505320" y="2971800"/>
            <a:ext cx="914400" cy="19051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20120" y="3505320"/>
            <a:ext cx="129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02ff"/>
                </a:solidFill>
                <a:latin typeface="Courier New"/>
              </a:rPr>
              <a:t>rmm=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similar to using the dxyz=1 option i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dclust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Clusterize_report.jpg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457200" y="870120"/>
            <a:ext cx="4876920" cy="2268360"/>
          </a:xfrm>
          <a:prstGeom prst="rect">
            <a:avLst/>
          </a:prstGeom>
          <a:ln w="15840">
            <a:solidFill>
              <a:srgbClr val="ff00ff"/>
            </a:solidFill>
            <a:miter/>
          </a:ln>
        </p:spPr>
      </p:pic>
      <p:pic>
        <p:nvPicPr>
          <p:cNvPr id="217" name="Picture 10" descr="clust1_roi.jpg                                                 005B80A9Macintosh HD                   BE74DD3D:"/>
          <p:cNvPicPr/>
          <p:nvPr/>
        </p:nvPicPr>
        <p:blipFill>
          <a:blip r:embed="rId2"/>
          <a:stretch/>
        </p:blipFill>
        <p:spPr>
          <a:xfrm>
            <a:off x="380880" y="3581280"/>
            <a:ext cx="1724040" cy="2362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clust2_roi.jpg                                                 005B80A9Macintosh HD                   BE74DD3D:"/>
          <p:cNvPicPr/>
          <p:nvPr/>
        </p:nvPicPr>
        <p:blipFill>
          <a:blip r:embed="rId3"/>
          <a:stretch/>
        </p:blipFill>
        <p:spPr>
          <a:xfrm>
            <a:off x="2286000" y="3581280"/>
            <a:ext cx="1733400" cy="23623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2"/>
          <p:cNvSpPr/>
          <p:nvPr/>
        </p:nvSpPr>
        <p:spPr>
          <a:xfrm>
            <a:off x="5410080" y="793800"/>
            <a:ext cx="335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02ff"/>
                </a:solidFill>
                <a:latin typeface="Courier New"/>
              </a:rPr>
              <a:t>Jump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ts the crosshairs to the designated xyz coordinates (default is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a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ROI cluster)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5410080" y="1494000"/>
            <a:ext cx="33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02ff"/>
                </a:solidFill>
                <a:latin typeface="Courier New"/>
              </a:rPr>
              <a:t>Flash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ashes the cluster voxels in the image viewer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21" name="Picture 14" descr="clust_mask.jpg                                                 005B80A9Macintosh HD                   BE74DD3D:"/>
          <p:cNvPicPr/>
          <p:nvPr/>
        </p:nvPicPr>
        <p:blipFill>
          <a:blip r:embed="rId4"/>
          <a:stretch/>
        </p:blipFill>
        <p:spPr>
          <a:xfrm>
            <a:off x="4522680" y="3962520"/>
            <a:ext cx="1725840" cy="2361960"/>
          </a:xfrm>
          <a:prstGeom prst="rect">
            <a:avLst/>
          </a:prstGeom>
          <a:ln w="15840">
            <a:solidFill>
              <a:srgbClr val="ff00ff"/>
            </a:solidFill>
            <a:miter/>
          </a:ln>
        </p:spPr>
      </p:pic>
      <p:sp>
        <p:nvSpPr>
          <p:cNvPr id="222" name="Text Box 15"/>
          <p:cNvSpPr/>
          <p:nvPr/>
        </p:nvSpPr>
        <p:spPr>
          <a:xfrm>
            <a:off x="5410080" y="1981080"/>
            <a:ext cx="32767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02ff"/>
                </a:solidFill>
                <a:latin typeface="Courier New"/>
              </a:rPr>
              <a:t>SaveMask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lick on this button to write clusters to a mask dataset call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ust_mask+orig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605480" y="368784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602ff"/>
                </a:solidFill>
                <a:latin typeface="Courier New"/>
              </a:rPr>
              <a:t>Clust_mask+orig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741960" y="327672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uster #1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2775600" y="327672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uster #2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2666880" y="3505320"/>
            <a:ext cx="565200" cy="121896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1066680" y="3505320"/>
            <a:ext cx="152640" cy="17524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537840" y="468360"/>
            <a:ext cx="297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ool 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Clusterize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 Features</a:t>
            </a:r>
            <a:endParaRPr b="0" lang="en-US" sz="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29" name="Picture 25" descr="Plot_clusterize.jpg                                            005B80A9Macintosh HD                   BE74DD3D:"/>
          <p:cNvPicPr/>
          <p:nvPr/>
        </p:nvPicPr>
        <p:blipFill>
          <a:blip r:embed="rId5"/>
          <a:stretch/>
        </p:blipFill>
        <p:spPr>
          <a:xfrm>
            <a:off x="6324480" y="4527720"/>
            <a:ext cx="2438640" cy="18730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6"/>
          <p:cNvSpPr/>
          <p:nvPr/>
        </p:nvSpPr>
        <p:spPr>
          <a:xfrm>
            <a:off x="5410080" y="2666880"/>
            <a:ext cx="358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02ff"/>
                </a:solidFill>
                <a:latin typeface="Courier New"/>
              </a:rPr>
              <a:t>Plot/Sav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llows user to load a 3D+time dataset (Aux Dset button) and plot the avg time series over a cluster. Plot  can be saved in .jpg or .png format.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629400" y="374976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3D+time datase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ll_vr+ori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aded and avg time series plotted for voxels within Cluster #1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1" descr="func_roi+orig.jpg    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3809880" y="4419720"/>
            <a:ext cx="1649520" cy="22604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6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3dmer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25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program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Courier New"/>
              </a:rPr>
              <a:t>3dmer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an find contiguous supra (above) threshold voxel clusters in an activation (functional) map and then convert each cluster into a ROI with a separate data value.  These clusters are then saved as a mask datas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milar to the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lusteriz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button on the AFNI interface, but done on the command line inste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25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3dmerge -prefix func_roi -dxyz=1 -1clip 99.0    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1clust_order 1 200 func_slim+orig.’[0]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res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2 clusters survived our criter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2362320" y="6019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0a3c"/>
                </a:solidFill>
                <a:latin typeface="Arial"/>
              </a:rPr>
              <a:t>ROI 1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2362320" y="51814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0a3c"/>
                </a:solidFill>
                <a:latin typeface="Arial"/>
              </a:rPr>
              <a:t>ROI 2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304920" y="525780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Arial"/>
              </a:rPr>
              <a:t>ULay: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anat+orig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Arial"/>
              </a:rPr>
              <a:t>OLay: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func_roi+orig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2971800" y="5334120"/>
            <a:ext cx="990720" cy="30456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 flipV="1">
            <a:off x="2971800" y="6019560"/>
            <a:ext cx="1143000" cy="1522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39" name="Picture 22" descr="func_roi_sag.jpg                                               005B80A9Macintosh HD                   BE74DD3D:"/>
          <p:cNvPicPr/>
          <p:nvPr/>
        </p:nvPicPr>
        <p:blipFill>
          <a:blip r:embed="rId2"/>
          <a:stretch/>
        </p:blipFill>
        <p:spPr>
          <a:xfrm>
            <a:off x="5638680" y="4495680"/>
            <a:ext cx="18874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3160" y="6858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8600" indent="-228600"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example, 4 ROI clusters were found that fit the criteria designated by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dclu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  Below is an explanation of th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lu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ize of each cluster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M R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Center of mass (CM) for each cluster in the Right-Left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M 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Center of mass for each cluster in the Anterior-Posterior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M 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Center of mass for each cluster in the Inferior-Superior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nR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xR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Bounding box for cluster, min &amp; max coordinates in R-L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n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x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Bounding box for cluster, min &amp; max coordinates in A-P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n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x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  Bounding box for cluster, min &amp; max coordinates in I-S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Mean value for each volum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tandard error of the mean for the volum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x 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Maximum Intensity (peak) value for each volum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 R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Peak value coordinate, R-L direction of each volum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 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Peak value coordinate, A-P direction of each volum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 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Peak value coordinate, I-S direction of each volum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0920" y="121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000080" y="121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1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525320" y="121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2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990440" y="121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3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2523960" y="121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4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981160" y="121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5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514680" y="121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6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9920" y="121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7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505040" y="121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8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030640" y="121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9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563800" y="1212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10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6173280" y="1212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11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782760" y="1212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12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7392600" y="1212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13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7849800" y="1212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14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8354520" y="1212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02ff"/>
                </a:solidFill>
                <a:latin typeface="Arial"/>
              </a:rPr>
              <a:t>15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57" name="Picture 23" descr="3dclust_output.jpg   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380880" y="1523880"/>
            <a:ext cx="8610840" cy="912960"/>
          </a:xfrm>
          <a:prstGeom prst="rect">
            <a:avLst/>
          </a:prstGeom>
          <a:ln w="12600">
            <a:solidFill>
              <a:srgbClr val="0807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of Interest Drawing and Usage in AF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thod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raw i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nually select Regions of Interest (ROIs) based on anatomical structures, then analyze functional datasets within these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Someone doing a study on emotion may want to draw an ROI mask that includes the amygdala only, in order to analyze the voxels that fall within that brain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thod relies on ‘a priori’ assumptions about localization of brain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thod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ster i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alyze functional dataset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rain first, then focus on geometrically connected clusters of ‘activity’ (supra-threshold voxels in some functional statistical m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, analyze the entire brain first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inpoint interesting areas of activity and do further analyses on those areas (program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3dclu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3dmer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r the AFNI graphical interface button </a:t>
            </a:r>
            <a:r>
              <a:rPr b="1" lang="en-US" sz="1600" spc="-1" strike="noStrike">
                <a:solidFill>
                  <a:srgbClr val="ff1209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Clusterize</a:t>
            </a:r>
            <a:r>
              <a:rPr b="1" lang="en-US" sz="1600" spc="-1" strike="noStrike">
                <a:solidFill>
                  <a:srgbClr val="ff1209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an assist you in finding those larger “blobs” or clusters of activ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with this method, you might want to manually adjust the ROIs (i.e., add or delete some voxels in the ROI ma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thod 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las 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Use atlases to select your ROIs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wherea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gram or symbolic notation to create masks on the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solidFill>
            <a:srgbClr val="abc0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ing around with sph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495360" y="1219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way to use cluster results –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pheres from the cluster peaks or centers of mas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rcRect l="46297" t="0" r="0" b="0"/>
          <a:stretch/>
        </p:blipFill>
        <p:spPr>
          <a:xfrm>
            <a:off x="6858000" y="2138400"/>
            <a:ext cx="2209680" cy="1824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304920" y="2398680"/>
            <a:ext cx="6362640" cy="3448080"/>
          </a:xfrm>
          <a:prstGeom prst="rect">
            <a:avLst/>
          </a:prstGeom>
          <a:solidFill>
            <a:srgbClr val="bfbfbf">
              <a:alpha val="62000"/>
            </a:srgbClr>
          </a:solidFill>
          <a:ln w="9360">
            <a:solidFill>
              <a:srgbClr val="abc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y this: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warp -apar anat+tlrc -dpar func_slim+orig –dxyz 3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fni GUI, select Underlay: anat, Overlay: func_slim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 view to Talairach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ay to vrel_coef, Threshold to vrel_tstat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ize, and Save Tabl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dcat Clust_table.1D'[4..6]' &gt; Clust_PeakXYZ.1D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Undump -srad 7.5 -master func_slim+tlrc -orient RAI  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refix clust_spheres -xyz Clust_PeakXYZ.1D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2"/>
          <a:srcRect l="1853" t="0" r="57409" b="0"/>
          <a:stretch/>
        </p:blipFill>
        <p:spPr>
          <a:xfrm>
            <a:off x="7086600" y="4114800"/>
            <a:ext cx="1890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NI comes with a collection of atlas data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d in same directory with binaries, user face files, and s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1713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you tried example #2 from </a:t>
            </a:r>
            <a:r>
              <a:rPr b="1" lang="en-US" sz="1600" spc="-1" strike="noStrike">
                <a:solidFill>
                  <a:srgbClr val="080799"/>
                </a:solidFill>
                <a:latin typeface="Courier New"/>
              </a:rPr>
              <a:t>imcat -hel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dataset names are of the form </a:t>
            </a:r>
            <a:r>
              <a:rPr b="1" lang="en-US" sz="1600" spc="-1" strike="noStrike">
                <a:solidFill>
                  <a:srgbClr val="940a3c"/>
                </a:solidFill>
                <a:latin typeface="Courier New"/>
              </a:rPr>
              <a:t>TT_something+tlrc.HEAD / .BR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wherea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 line program can create a mask dataset using an atlas dataset and a name of a region stored inside the atlas data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whereami -mask_atlas_region TT_Daemon:left:hippocampus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prefix L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1001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s a mask dataset named </a:t>
            </a:r>
            <a:r>
              <a:rPr b="1" lang="en-US" sz="1600" spc="-1" strike="noStrike">
                <a:solidFill>
                  <a:srgbClr val="940a3c"/>
                </a:solidFill>
                <a:latin typeface="Courier New"/>
              </a:rPr>
              <a:t>Lhip+tlrc.HEAD / .BRI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aining the voxels defined in the Talairach Daemon as being in the left hippocamp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e ALL the regions available in all the atlases, type 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whereami -show_atlas_code | 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1001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ould create multiple masks this way and then combine them into a multi-region ROI mask using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3dca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1001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ay want to use such automatic atlas-generated masks as a starting point for custom editing of the mask for each subject (using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Draw Data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lug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990720" y="152280"/>
            <a:ext cx="7238880" cy="762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reating ROI datasets from Atlases:        AFNI program </a:t>
            </a:r>
            <a:r>
              <a:rPr b="1" lang="en-US" sz="2000" spc="-1" strike="noStrike">
                <a:solidFill>
                  <a:srgbClr val="0602ff"/>
                </a:solidFill>
                <a:latin typeface="Courier New"/>
              </a:rPr>
              <a:t>whereami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45720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602ff"/>
                </a:solidFill>
                <a:latin typeface="Courier New"/>
              </a:rPr>
              <a:t>where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provide the user with more detailed information regarding the output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dclu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569880" indent="-2221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instance, say you want more information regarding the center of mass voxels from each cluster (from the 3dclust output).  I.e., where do they fall approximately within the atlases?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56988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  <a:ea typeface="ＭＳ Ｐゴシック"/>
              </a:rPr>
              <a:t>3dclust -dxyz=1 -1clip 99.0  1 200 func_FullF+tlrc &gt; clusts.1D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569880" indent="-22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  <a:ea typeface="ＭＳ Ｐゴシック"/>
              </a:rPr>
              <a:t>whereami -coord_file clusts.1D'[1,2,3]' -tab | less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838080" y="64008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H="1" flipV="1">
            <a:off x="5486040" y="2133720"/>
            <a:ext cx="1066680" cy="304560"/>
          </a:xfrm>
          <a:prstGeom prst="line">
            <a:avLst/>
          </a:prstGeom>
          <a:ln w="12600">
            <a:solidFill>
              <a:srgbClr val="940a3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7162920" y="3276720"/>
            <a:ext cx="16002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40a3c"/>
                </a:solidFill>
                <a:uFillTx/>
                <a:latin typeface="Arial"/>
              </a:rPr>
              <a:t>Shown</a:t>
            </a:r>
            <a:r>
              <a:rPr b="0" lang="en-US" sz="1400" spc="-1" strike="noStrike">
                <a:solidFill>
                  <a:srgbClr val="940a3c"/>
                </a:solidFill>
                <a:latin typeface="Arial"/>
              </a:rPr>
              <a:t>: Cluster #1’s coordinates according to various atlases (TT, MNI, etc), as well as the name of the anatomical structure that is located at or near these coordinates (which may vary by atlas)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7010280" y="3429000"/>
            <a:ext cx="228600" cy="2590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940a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70" name="Picture 15" descr="whereami_output.jpg                                            005B80A9Macintosh HD                   BE74DD3D:"/>
          <p:cNvPicPr/>
          <p:nvPr/>
        </p:nvPicPr>
        <p:blipFill>
          <a:blip r:embed="rId1"/>
          <a:stretch/>
        </p:blipFill>
        <p:spPr>
          <a:xfrm>
            <a:off x="747720" y="2527200"/>
            <a:ext cx="5958000" cy="3949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0"/>
          <p:cNvSpPr/>
          <p:nvPr/>
        </p:nvSpPr>
        <p:spPr>
          <a:xfrm>
            <a:off x="6477120" y="213372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40a3c"/>
                </a:solidFill>
                <a:latin typeface="Arial"/>
              </a:rPr>
              <a:t>Center of mass output, columns 1,2,3, from 3dclust output (see pg. 25).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609480" y="53352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602ff"/>
                </a:solidFill>
                <a:latin typeface="Courier New"/>
              </a:rPr>
              <a:t>where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extract ROIs for various atlas regions using symbolic no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7640" indent="-2332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  <a:ea typeface="ＭＳ Ｐゴシック"/>
              </a:rPr>
              <a:t>whereami -mask_atlas_region TT_Daemon:left:amy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569880" indent="-2221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ove command will use the Talairach-Tourneaux atlas (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  <a:ea typeface="ＭＳ Ｐゴシック"/>
              </a:rPr>
              <a:t>TT_Daem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reate an ROI of the left amygdala (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  <a:ea typeface="ＭＳ Ｐゴシック"/>
              </a:rPr>
              <a:t>left:am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7640" indent="-2332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  <a:ea typeface="ＭＳ Ｐゴシック"/>
              </a:rPr>
              <a:t>whereami -hel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more details regarding available atl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569880" indent="-2221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n ROI dataset call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40a3c"/>
                </a:solidFill>
                <a:latin typeface="Courier New"/>
                <a:ea typeface="ＭＳ Ｐゴシック"/>
              </a:rPr>
              <a:t>TT_Daemon.amy.l+tlrc.HEAD/BRI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73" name="Picture 6" descr="whereami_roi_ax.jpg                                            003C876BMacintosh HD                   BE74DD3D:"/>
          <p:cNvPicPr/>
          <p:nvPr/>
        </p:nvPicPr>
        <p:blipFill>
          <a:blip r:embed="rId1"/>
          <a:stretch/>
        </p:blipFill>
        <p:spPr>
          <a:xfrm>
            <a:off x="838080" y="3254400"/>
            <a:ext cx="2052720" cy="2635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74" name="Picture 7" descr="whereami_roi_cor.jpg                                           003C876BMacintosh HD                   BE74DD3D:"/>
          <p:cNvPicPr/>
          <p:nvPr/>
        </p:nvPicPr>
        <p:blipFill>
          <a:blip r:embed="rId2"/>
          <a:stretch/>
        </p:blipFill>
        <p:spPr>
          <a:xfrm>
            <a:off x="3200400" y="3483000"/>
            <a:ext cx="2313000" cy="23670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75" name="Picture 8" descr="whereami_roi_sag.jpg                                           003C876BMacintosh HD                   BE74DD3D:"/>
          <p:cNvPicPr/>
          <p:nvPr/>
        </p:nvPicPr>
        <p:blipFill>
          <a:blip r:embed="rId3"/>
          <a:stretch/>
        </p:blipFill>
        <p:spPr>
          <a:xfrm>
            <a:off x="5715000" y="3406680"/>
            <a:ext cx="2959200" cy="25369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76" name="Text Box 9"/>
          <p:cNvSpPr/>
          <p:nvPr/>
        </p:nvSpPr>
        <p:spPr>
          <a:xfrm>
            <a:off x="914400" y="261936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ay: </a:t>
            </a:r>
            <a:r>
              <a:rPr b="1" lang="en-US" sz="1600" spc="-1" strike="noStrike">
                <a:solidFill>
                  <a:srgbClr val="940a3c"/>
                </a:solidFill>
                <a:latin typeface="Courier New"/>
              </a:rPr>
              <a:t>anat+tlr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OLay: </a:t>
            </a:r>
            <a:r>
              <a:rPr b="1" lang="en-US" sz="1600" spc="-1" strike="noStrike">
                <a:solidFill>
                  <a:srgbClr val="940a3c"/>
                </a:solidFill>
                <a:latin typeface="Courier New"/>
              </a:rPr>
              <a:t>TT_Daemon.amy.l.tlrc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858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602ff"/>
                </a:solidFill>
                <a:latin typeface="Courier New"/>
              </a:rPr>
              <a:t>where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report on the overlap of ROIs with atlas-defined reg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7640" indent="-233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7640" indent="-233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  <a:ea typeface="ＭＳ Ｐゴシック"/>
              </a:rPr>
              <a:t>whereami -omask anat_roi+tlrc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7640" indent="-233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78" name="Picture 5" descr="whereami_omask.jpg                                             003C876BMacintosh HD                   BE74DD3D:"/>
          <p:cNvPicPr/>
          <p:nvPr/>
        </p:nvPicPr>
        <p:blipFill>
          <a:blip r:embed="rId1"/>
          <a:stretch/>
        </p:blipFill>
        <p:spPr>
          <a:xfrm>
            <a:off x="1295280" y="152388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lso specify atlas-based ROI masks directly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3dmaskave -mask TT_Daemon:left:hippocampus func_FullF+tl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above single command, 2 things will occu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26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alairach-Tourneaux atlas will be used to create an ROI mask of the left hippocampus, which will be applied to the datase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_FullF+tlr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note: this dataset has one sub-brick in it - small and simple, for demo purpos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26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an will be calculated for the voxels in datase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_FullF+tlr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fall within the ROI ma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rom above command shows up on the terminal like th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3dcalc  -prefix nice_roi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        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a ‘CA_N27_ML::hippo’ -b ‘func_FullF+tlrc’  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expr ‘(step(a)*b)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-2667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func_FullF.jpg                                                 003C876BMacintosh HD                   BE74DD3D:"/>
          <p:cNvPicPr/>
          <p:nvPr/>
        </p:nvPicPr>
        <p:blipFill>
          <a:blip r:embed="rId1"/>
          <a:stretch/>
        </p:blipFill>
        <p:spPr>
          <a:xfrm>
            <a:off x="1371600" y="2895480"/>
            <a:ext cx="6324480" cy="6098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1" name="Picture 6" descr="niceroi_ax.jpg                                                 003C876BMacintosh HD                   BE74DD3D:"/>
          <p:cNvPicPr/>
          <p:nvPr/>
        </p:nvPicPr>
        <p:blipFill>
          <a:blip r:embed="rId2"/>
          <a:stretch/>
        </p:blipFill>
        <p:spPr>
          <a:xfrm>
            <a:off x="4800600" y="4562640"/>
            <a:ext cx="1639800" cy="1990440"/>
          </a:xfrm>
          <a:prstGeom prst="rect">
            <a:avLst/>
          </a:prstGeom>
          <a:ln w="19080">
            <a:solidFill>
              <a:srgbClr val="ff00ff"/>
            </a:solidFill>
            <a:miter/>
          </a:ln>
        </p:spPr>
      </p:pic>
      <p:pic>
        <p:nvPicPr>
          <p:cNvPr id="282" name="Picture 7" descr="niceroi_cor.jpg                                                003C876BMacintosh HD                   BE74DD3D:"/>
          <p:cNvPicPr/>
          <p:nvPr/>
        </p:nvPicPr>
        <p:blipFill>
          <a:blip r:embed="rId3"/>
          <a:stretch/>
        </p:blipFill>
        <p:spPr>
          <a:xfrm>
            <a:off x="2971800" y="4952880"/>
            <a:ext cx="1676520" cy="1587600"/>
          </a:xfrm>
          <a:prstGeom prst="rect">
            <a:avLst/>
          </a:prstGeom>
          <a:ln w="19080">
            <a:solidFill>
              <a:srgbClr val="ff00ff"/>
            </a:solidFill>
            <a:miter/>
          </a:ln>
        </p:spPr>
      </p:pic>
      <p:pic>
        <p:nvPicPr>
          <p:cNvPr id="283" name="Picture 8" descr="niceroi_sag.jpg                                                003C876BMacintosh HD                   BE74DD3D:"/>
          <p:cNvPicPr/>
          <p:nvPr/>
        </p:nvPicPr>
        <p:blipFill>
          <a:blip r:embed="rId4"/>
          <a:stretch/>
        </p:blipFill>
        <p:spPr>
          <a:xfrm>
            <a:off x="6553080" y="4700520"/>
            <a:ext cx="2210040" cy="1838520"/>
          </a:xfrm>
          <a:prstGeom prst="rect">
            <a:avLst/>
          </a:prstGeom>
          <a:ln w="19080">
            <a:solidFill>
              <a:srgbClr val="ff00ff"/>
            </a:solidFill>
            <a:miter/>
          </a:ln>
        </p:spPr>
      </p:pic>
      <p:sp>
        <p:nvSpPr>
          <p:cNvPr id="284" name="Text Box 10"/>
          <p:cNvSpPr/>
          <p:nvPr/>
        </p:nvSpPr>
        <p:spPr>
          <a:xfrm>
            <a:off x="533520" y="5257800"/>
            <a:ext cx="22096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ay: </a:t>
            </a:r>
            <a:r>
              <a:rPr b="1" lang="en-US" sz="1400" spc="-1" strike="noStrike">
                <a:solidFill>
                  <a:srgbClr val="940a3c"/>
                </a:solidFill>
                <a:latin typeface="Courier New"/>
              </a:rPr>
              <a:t>anat+tl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OLay: </a:t>
            </a:r>
            <a:r>
              <a:rPr b="1" lang="en-US" sz="1400" spc="-1" strike="noStrike">
                <a:solidFill>
                  <a:srgbClr val="940a3c"/>
                </a:solidFill>
                <a:latin typeface="Courier New"/>
              </a:rPr>
              <a:t>nice_roi+tlrc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40a3c"/>
                </a:solidFill>
                <a:latin typeface="Arial"/>
              </a:rPr>
              <a:t>F-stat voxels in func dataset that fall within the TT left hippocampus ROI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 flipV="1">
            <a:off x="2286000" y="5867280"/>
            <a:ext cx="1066680" cy="152640"/>
          </a:xfrm>
          <a:prstGeom prst="line">
            <a:avLst/>
          </a:prstGeom>
          <a:ln w="15840">
            <a:solidFill>
              <a:srgbClr val="940a3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ve examples use a feature of the AFNI software package to create datasets from atlas regions on the f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9800" indent="-165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of a 0-or-1 mask datas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rect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 the command line using a dataset name of the form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Atlas_name:Hemisphere:Region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is feature, you don’t have to create the mask using the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wherea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gram and then use it later— you can create it and use it at the sam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9 from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3dcalc -hel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the left and right amygdala between the Talairach atlas, and the CA_N27_ML atlas.  The result will b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f a voxel is marked as amygdala in the </a:t>
            </a:r>
            <a:r>
              <a:rPr b="1" lang="en-US" sz="1600" spc="-1" strike="noStrike">
                <a:solidFill>
                  <a:srgbClr val="0602ff"/>
                </a:solidFill>
                <a:latin typeface="Arial"/>
              </a:rPr>
              <a:t>TT_Daem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f it is marked as amygdala in the </a:t>
            </a:r>
            <a:r>
              <a:rPr b="1" lang="en-US" sz="1600" spc="-1" strike="noStrike">
                <a:solidFill>
                  <a:srgbClr val="0602ff"/>
                </a:solidFill>
                <a:latin typeface="Arial"/>
              </a:rPr>
              <a:t>CA_N27_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,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re they overl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3dcalc  -a 'TT_Daemon::amygdala' \                           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-b 'CA_N27_ML::amygdala' \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expr 'step(a)+2*step(b)’\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-prefix compare.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ore information about </a:t>
            </a:r>
            <a:r>
              <a:rPr b="1" lang="en-US" sz="1600" spc="-1" strike="noStrike">
                <a:solidFill>
                  <a:srgbClr val="0602ff"/>
                </a:solidFill>
                <a:latin typeface="Courier New"/>
              </a:rPr>
              <a:t>3dcal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see the AFNI Utilitie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overlap_rois.jpg                                               003C876BMacintosh HD                   BE74DD3D:"/>
          <p:cNvPicPr/>
          <p:nvPr/>
        </p:nvPicPr>
        <p:blipFill>
          <a:blip r:embed="rId1"/>
          <a:stretch/>
        </p:blipFill>
        <p:spPr>
          <a:xfrm>
            <a:off x="5334120" y="3322800"/>
            <a:ext cx="3200400" cy="27190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88" name="Text Box 4"/>
          <p:cNvSpPr/>
          <p:nvPr/>
        </p:nvSpPr>
        <p:spPr>
          <a:xfrm>
            <a:off x="2743200" y="4800600"/>
            <a:ext cx="2666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40a3c"/>
                </a:solidFill>
                <a:latin typeface="Arial"/>
              </a:rPr>
              <a:t>Note: </a:t>
            </a:r>
            <a:r>
              <a:rPr b="1" lang="en-US" sz="1400" spc="-1" strike="noStrike">
                <a:solidFill>
                  <a:srgbClr val="940a3c"/>
                </a:solidFill>
                <a:latin typeface="Courier New"/>
              </a:rPr>
              <a:t>compare.maps+tlrc</a:t>
            </a:r>
            <a:r>
              <a:rPr b="0" lang="en-US" sz="1400" spc="-1" strike="noStrike">
                <a:solidFill>
                  <a:srgbClr val="940a3c"/>
                </a:solidFill>
                <a:latin typeface="Arial"/>
              </a:rPr>
              <a:t> displays the TT amygdala (value=1) in green, the N27 amygdala (value=2) in orange, and the overlap between the two atlases (value=3) in red.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solidFill>
            <a:srgbClr val="abc0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ck to the "Original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pace to Native Subject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2"/>
          <p:cNvSpPr/>
          <p:nvPr/>
        </p:nvSpPr>
        <p:spPr>
          <a:xfrm>
            <a:off x="609480" y="1225440"/>
            <a:ext cx="8153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for putting atlas regions into the native space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fine transformations only (@auto_tlrc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3 ways to "inverse talairach":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dAllineat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_matvec -ONELINE anat+tlrc::WARP_DATA &gt; tlrc.aff12.1D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Allineate -1Dmatrix_apply tlrc.aff12.1D -prefix invtlrc3dAl+orig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ource anat+tlrc -master anat+orig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dWarp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_matvec anat+tlrc::WARP_DATA &gt; tlrc.1D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Warp -matvec_out2in tlrc.1D -prefix invtlrc_3dWarp+orig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gridset anat+orig anat+tlrc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refit -view orig invtlrc_3dWarp+tlrc.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dfraction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slow but useful voting option for multiple ROI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 and manual Talairach transformation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fractionize -input anat+tlrc -warp anat+tlrc –preserve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refix invtlrc_3dfrac -template anat+orig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solidFill>
            <a:srgbClr val="abc0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ck to the "Original"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pace to Native Subject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609480" y="1225440"/>
            <a:ext cx="8153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linear and Affine transformation combin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3 ways to "inverse talairach":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getting data to a standard space with @auto_tlrc and auto_warp.py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affinely align to template  with @auto_tlrc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auto_tlrc -base TT_N27+tlrc -input strip_shift+orig. -no_ss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nit_xform AUTO_CENTER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nonlinearly align to templat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_warp.py -skip_affine -base TT_N27+tlrc -input strip_shift+tlrc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dNwarpApp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_matvec -ONELINE "strip_shift+tlrc::WARP_DATA" &gt; at_shift.1D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one step concatenate and apply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NwarpApply -prefix tw3   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nwarp 'at_shift.1D INV(awpy/anat.un.aff.qw_WARP.nii)'  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ource awpy/strip_shift.aw.nii 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master strip_shift+orig.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solidFill>
            <a:srgbClr val="abc0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ck to the "Original" 2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pace to Native Subject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609480" y="1225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linear and Affine transformation combin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dNwarpCat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NwarpCat -prefix anat_total_WARPINV2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arp2 'INV(anat_qw9_WARP+tlrc)' -warp1 'at.1D'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NwarpApply -prefix anat_backtoorig2   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nwarp anat_total_WARPINV2+tlrc.     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ource anat_qw9+tlrc -master anat+orig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dNwarpCalc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NwarpCalc "&amp;readwarp(anat_qw9_WARP+tlrc.)" "&amp;invert"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amp;read4x4(at_matrix.1D)" "&amp;compose" "&amp;write(combo_warp3)"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NwarpApply -prefix anat_backtoorig5 -nwarp combo_warp3+tlrc. \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ource anat_qw9+tlrc -master anat+orig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Quick outline of 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30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main AFNI control panel, set the anatomical underlay dataset (with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UnderLay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o be what you want to draw on -- usually a SPGR or MP-RAGE type of data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30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, the anatomical underlay will serve as our guide or template for drawing the ROI m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30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raw Data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lugin (this is our ROI-creating plugi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30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Define Datamode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Plugins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Draw Dataset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304560">
              <a:spcBef>
                <a:spcPts val="400"/>
              </a:spcBef>
              <a:buClr>
                <a:srgbClr val="000000"/>
              </a:buClr>
              <a:buSzPct val="85000"/>
              <a:buFont typeface="Times"/>
              <a:buChar char="H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l ze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atomical overlay dataset with th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Draw Data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lugin.  This is the beginning of our ROI mask.  At this point, the anatomical overlay is empty - i.e., all the voxel values are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304560">
              <a:spcBef>
                <a:spcPts val="4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anatomical overla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ave the same geometry as the anatomical underlay, i.e., it has the same voxel size as the underlay, the sam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grid spacing, etc…, since drawing/editing is done on a voxel-by-voxel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74760" indent="-304920">
              <a:spcBef>
                <a:spcPts val="400"/>
              </a:spcBef>
              <a:buClr>
                <a:srgbClr val="000000"/>
              </a:buClr>
              <a:buSzPct val="8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 of the anat overlay as a blank piece of tracing paper that is the same size as the template underneath. The blank overlay will be used to trace portions of the underlay.  Voxel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traced portion will make up the ROI mask.  Valu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traced region are irrelevant (z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304560">
              <a:spcBef>
                <a:spcPts val="4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You could also edit an already-existing ROI mask (that you created earlier) at this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914400" y="304920"/>
            <a:ext cx="7467480" cy="6080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andmade ROI’s from Anatomical Volume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5335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lases Distributed With AFN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_Daemon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1066680" y="838080"/>
            <a:ext cx="66294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T_Daem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: Created by tracing Talairach and Tournoux brain illustrations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569880" indent="-2221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ously contributed by Jack Lancaster and Peter Fox of RIC UTHSCSA)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118040" cy="5061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4738680" y="1523880"/>
            <a:ext cx="411804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5335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lases Distributed With AFN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Toolbox: Prob. Maps, Max. Prob. Map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1066680" y="838080"/>
            <a:ext cx="66294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04920" y="914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_N27_M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_N27_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_N27_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natomy Toolbox's atlases with some created from cytoarchitectonic studies of 10 human post-mortem brains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569880" indent="-2221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ously contributed by Simon Eickhoff, Katrin Amunts and Karl Zilles of IME, Julich, Germany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03" name="Picture 5" descr=""/>
          <p:cNvPicPr/>
          <p:nvPr/>
        </p:nvPicPr>
        <p:blipFill>
          <a:blip r:embed="rId1"/>
          <a:stretch/>
        </p:blipFill>
        <p:spPr>
          <a:xfrm>
            <a:off x="660240" y="2101680"/>
            <a:ext cx="3683160" cy="4527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621240" cy="44514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7"/>
          <p:cNvSpPr/>
          <p:nvPr/>
        </p:nvSpPr>
        <p:spPr>
          <a:xfrm>
            <a:off x="8121600" y="65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5335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lases Distributed With AFNI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Toolbox: MacroLabel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7" name="Line 3"/>
          <p:cNvSpPr/>
          <p:nvPr/>
        </p:nvSpPr>
        <p:spPr>
          <a:xfrm>
            <a:off x="1066680" y="838080"/>
            <a:ext cx="66294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04920" y="914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_N27_MPM, CA_N27_ML, CA_N27_PM: Anatomy Toolbox's atlases with some created from cytoarchitectonic studies of 10 human post-mortem brains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569880" indent="-2221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ously contributed by Simon Eickhoff, Katrin Amunts and Karl Zilles of IME, Julich, Germany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09" name="Picture 5" descr="TT_N27_ML_Ax_Mont.tiff                                         001E5572Macintosh HD                   BC87893D:"/>
          <p:cNvPicPr/>
          <p:nvPr/>
        </p:nvPicPr>
        <p:blipFill>
          <a:blip r:embed="rId1"/>
          <a:stretch/>
        </p:blipFill>
        <p:spPr>
          <a:xfrm>
            <a:off x="762120" y="2057400"/>
            <a:ext cx="3719520" cy="4572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TT_images_whereami.tiff                                        001E5572Macintosh HD                   BC87893D:"/>
          <p:cNvPicPr/>
          <p:nvPr/>
        </p:nvPicPr>
        <p:blipFill>
          <a:blip r:embed="rId2"/>
          <a:stretch/>
        </p:blipFill>
        <p:spPr>
          <a:xfrm>
            <a:off x="4659480" y="2044800"/>
            <a:ext cx="42559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solidFill>
            <a:srgbClr val="abc0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ity – "double dipping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2"/>
          <p:cNvSpPr/>
          <p:nvPr/>
        </p:nvSpPr>
        <p:spPr>
          <a:xfrm>
            <a:off x="609480" y="122544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results from one set of data to limit the data in that same set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RI example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argest differences with some threshold between groups A and B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ROIs from those difference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differences between ROIs for the same two groups showing that indeed A is very different from B with a p-value of 0.05. They're different because they're different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: Use ROIs from independent data: Atlas regions, locator tasks, other subject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26"/>
          <p:cNvSpPr/>
          <p:nvPr/>
        </p:nvSpPr>
        <p:spPr>
          <a:xfrm>
            <a:off x="76320" y="630360"/>
            <a:ext cx="4275000" cy="2898720"/>
          </a:xfrm>
          <a:prstGeom prst="rect">
            <a:avLst/>
          </a:prstGeom>
          <a:solidFill>
            <a:srgbClr val="7cb9e9"/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4" name="Rectangle 117"/>
          <p:cNvSpPr/>
          <p:nvPr/>
        </p:nvSpPr>
        <p:spPr>
          <a:xfrm>
            <a:off x="374760" y="2055960"/>
            <a:ext cx="3537000" cy="7380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5" name="Oval 4"/>
          <p:cNvSpPr/>
          <p:nvPr/>
        </p:nvSpPr>
        <p:spPr>
          <a:xfrm>
            <a:off x="380880" y="1173240"/>
            <a:ext cx="1209960" cy="703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279360" y="147600"/>
            <a:ext cx="830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Is from Locator session day 1 applied to session day 2 EPI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7" name="TextBox 34"/>
          <p:cNvSpPr/>
          <p:nvPr/>
        </p:nvSpPr>
        <p:spPr>
          <a:xfrm>
            <a:off x="222120" y="655560"/>
            <a:ext cx="29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 1 – Locator Task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8" name="TextBox 35"/>
          <p:cNvSpPr/>
          <p:nvPr/>
        </p:nvSpPr>
        <p:spPr>
          <a:xfrm>
            <a:off x="515880" y="1368360"/>
            <a:ext cx="88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1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9" name="Oval 4"/>
          <p:cNvSpPr/>
          <p:nvPr/>
        </p:nvSpPr>
        <p:spPr>
          <a:xfrm>
            <a:off x="468360" y="2128680"/>
            <a:ext cx="877680" cy="43992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0" name="TextBox 37"/>
          <p:cNvSpPr/>
          <p:nvPr/>
        </p:nvSpPr>
        <p:spPr>
          <a:xfrm>
            <a:off x="468360" y="2170080"/>
            <a:ext cx="88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cator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=0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1" name="Oval 4"/>
          <p:cNvSpPr/>
          <p:nvPr/>
        </p:nvSpPr>
        <p:spPr>
          <a:xfrm>
            <a:off x="1519200" y="2130480"/>
            <a:ext cx="878040" cy="43956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2" name="TextBox 39"/>
          <p:cNvSpPr/>
          <p:nvPr/>
        </p:nvSpPr>
        <p:spPr>
          <a:xfrm>
            <a:off x="1517760" y="2171880"/>
            <a:ext cx="8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cator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=1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3" name="Oval 4"/>
          <p:cNvSpPr/>
          <p:nvPr/>
        </p:nvSpPr>
        <p:spPr>
          <a:xfrm>
            <a:off x="2714760" y="2130480"/>
            <a:ext cx="877680" cy="43956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4" name="TextBox 43"/>
          <p:cNvSpPr/>
          <p:nvPr/>
        </p:nvSpPr>
        <p:spPr>
          <a:xfrm>
            <a:off x="2714760" y="2171880"/>
            <a:ext cx="88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cator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=n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5" name="Oval 4"/>
          <p:cNvSpPr/>
          <p:nvPr/>
        </p:nvSpPr>
        <p:spPr>
          <a:xfrm>
            <a:off x="488880" y="2836800"/>
            <a:ext cx="876240" cy="43992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6" name="Oval 4"/>
          <p:cNvSpPr/>
          <p:nvPr/>
        </p:nvSpPr>
        <p:spPr>
          <a:xfrm>
            <a:off x="1538280" y="2840040"/>
            <a:ext cx="878040" cy="43956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7" name="Oval 4"/>
          <p:cNvSpPr/>
          <p:nvPr/>
        </p:nvSpPr>
        <p:spPr>
          <a:xfrm>
            <a:off x="2735280" y="2840040"/>
            <a:ext cx="878040" cy="43956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8" name="TextBox 52"/>
          <p:cNvSpPr/>
          <p:nvPr/>
        </p:nvSpPr>
        <p:spPr>
          <a:xfrm>
            <a:off x="2278080" y="224640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9" name="TextBox 53"/>
          <p:cNvSpPr/>
          <p:nvPr/>
        </p:nvSpPr>
        <p:spPr>
          <a:xfrm>
            <a:off x="2276640" y="2822400"/>
            <a:ext cx="5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cxnSp>
        <p:nvCxnSpPr>
          <p:cNvPr id="330" name="Curved Connector 59"/>
          <p:cNvCxnSpPr>
            <a:endCxn id="321" idx="0"/>
          </p:cNvCxnSpPr>
          <p:nvPr/>
        </p:nvCxnSpPr>
        <p:spPr>
          <a:xfrm>
            <a:off x="1300320" y="1828800"/>
            <a:ext cx="659520" cy="302400"/>
          </a:xfrm>
          <a:prstGeom prst="curvedConnector2">
            <a:avLst/>
          </a:prstGeom>
          <a:ln w="25560">
            <a:solidFill>
              <a:srgbClr val="bbe0e3"/>
            </a:solidFill>
            <a:miter/>
            <a:headEnd len="lg" type="triangle" w="med"/>
          </a:ln>
        </p:spPr>
      </p:cxnSp>
      <p:sp>
        <p:nvSpPr>
          <p:cNvPr id="331" name="Freeform 108"/>
          <p:cNvSpPr/>
          <p:nvPr/>
        </p:nvSpPr>
        <p:spPr>
          <a:xfrm>
            <a:off x="1136520" y="2093760"/>
            <a:ext cx="517680" cy="8892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  <a:tailEnd len="med" type="triangle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2" name="Freeform 110"/>
          <p:cNvSpPr/>
          <p:nvPr/>
        </p:nvSpPr>
        <p:spPr>
          <a:xfrm>
            <a:off x="2276640" y="2138400"/>
            <a:ext cx="517320" cy="8892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  <a:headEnd len="med" type="triangle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3" name="TextBox 118"/>
          <p:cNvSpPr/>
          <p:nvPr/>
        </p:nvSpPr>
        <p:spPr>
          <a:xfrm>
            <a:off x="1892160" y="2563920"/>
            <a:ext cx="258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otion correction xforms from 3dvolreg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4" name="TextBox 119"/>
          <p:cNvSpPr/>
          <p:nvPr/>
        </p:nvSpPr>
        <p:spPr>
          <a:xfrm>
            <a:off x="1695600" y="1127160"/>
            <a:ext cx="1631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ructural-functional alignment from align_epi_anat.py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affine)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5" name="Trapezoid 130"/>
          <p:cNvSpPr/>
          <p:nvPr/>
        </p:nvSpPr>
        <p:spPr>
          <a:xfrm>
            <a:off x="5997600" y="6021360"/>
            <a:ext cx="387360" cy="271440"/>
          </a:xfrm>
          <a:prstGeom prst="pie">
            <a:avLst/>
          </a:prstGeom>
          <a:solidFill>
            <a:srgbClr val="ffd2a9"/>
          </a:solidFill>
          <a:ln w="9360">
            <a:solidFill>
              <a:srgbClr val="80808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6" name="Oval 4"/>
          <p:cNvSpPr/>
          <p:nvPr/>
        </p:nvSpPr>
        <p:spPr>
          <a:xfrm>
            <a:off x="5950080" y="6375240"/>
            <a:ext cx="511200" cy="29052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7" name="TextBox 133"/>
          <p:cNvSpPr/>
          <p:nvPr/>
        </p:nvSpPr>
        <p:spPr>
          <a:xfrm>
            <a:off x="6400800" y="6039000"/>
            <a:ext cx="83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8" name="TextBox 134"/>
          <p:cNvSpPr/>
          <p:nvPr/>
        </p:nvSpPr>
        <p:spPr>
          <a:xfrm>
            <a:off x="6350040" y="6386400"/>
            <a:ext cx="83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9" name="Rectangle 165"/>
          <p:cNvSpPr/>
          <p:nvPr/>
        </p:nvSpPr>
        <p:spPr>
          <a:xfrm>
            <a:off x="4452840" y="630360"/>
            <a:ext cx="4276800" cy="2898720"/>
          </a:xfrm>
          <a:prstGeom prst="rect">
            <a:avLst/>
          </a:prstGeom>
          <a:solidFill>
            <a:srgbClr val="7cb9e9"/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0" name="Rectangle 166"/>
          <p:cNvSpPr/>
          <p:nvPr/>
        </p:nvSpPr>
        <p:spPr>
          <a:xfrm>
            <a:off x="4751280" y="2055960"/>
            <a:ext cx="3537000" cy="14112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1" name="Oval 4"/>
          <p:cNvSpPr/>
          <p:nvPr/>
        </p:nvSpPr>
        <p:spPr>
          <a:xfrm>
            <a:off x="4757760" y="1173240"/>
            <a:ext cx="1211400" cy="703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2" name="TextBox 168"/>
          <p:cNvSpPr/>
          <p:nvPr/>
        </p:nvSpPr>
        <p:spPr>
          <a:xfrm>
            <a:off x="4572000" y="65556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 2 - Task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3" name="TextBox 169"/>
          <p:cNvSpPr/>
          <p:nvPr/>
        </p:nvSpPr>
        <p:spPr>
          <a:xfrm>
            <a:off x="4894200" y="136836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2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4844880" y="2128680"/>
            <a:ext cx="878040" cy="43992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5" name="TextBox 171"/>
          <p:cNvSpPr/>
          <p:nvPr/>
        </p:nvSpPr>
        <p:spPr>
          <a:xfrm>
            <a:off x="4844880" y="2170080"/>
            <a:ext cx="8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PI_RUN1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=0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5896080" y="2130480"/>
            <a:ext cx="877680" cy="43956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7" name="TextBox 173"/>
          <p:cNvSpPr/>
          <p:nvPr/>
        </p:nvSpPr>
        <p:spPr>
          <a:xfrm>
            <a:off x="5896080" y="2171880"/>
            <a:ext cx="8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PI_RUN1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=1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8" name="Oval 4"/>
          <p:cNvSpPr/>
          <p:nvPr/>
        </p:nvSpPr>
        <p:spPr>
          <a:xfrm>
            <a:off x="7093080" y="2130480"/>
            <a:ext cx="877680" cy="43956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9" name="TextBox 175"/>
          <p:cNvSpPr/>
          <p:nvPr/>
        </p:nvSpPr>
        <p:spPr>
          <a:xfrm>
            <a:off x="7091280" y="2171880"/>
            <a:ext cx="8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PI_RUN1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=n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4824360" y="2725560"/>
            <a:ext cx="878040" cy="43992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1" name="TextBox 177"/>
          <p:cNvSpPr/>
          <p:nvPr/>
        </p:nvSpPr>
        <p:spPr>
          <a:xfrm>
            <a:off x="4824360" y="2766960"/>
            <a:ext cx="88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PI_RUN2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=0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2" name="Oval 4"/>
          <p:cNvSpPr/>
          <p:nvPr/>
        </p:nvSpPr>
        <p:spPr>
          <a:xfrm>
            <a:off x="5875200" y="2728800"/>
            <a:ext cx="878040" cy="43992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3" name="TextBox 179"/>
          <p:cNvSpPr/>
          <p:nvPr/>
        </p:nvSpPr>
        <p:spPr>
          <a:xfrm>
            <a:off x="5873760" y="2768760"/>
            <a:ext cx="8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PI_RUN2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=1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7070760" y="2728800"/>
            <a:ext cx="877680" cy="439920"/>
          </a:xfrm>
          <a:prstGeom prst="ellipse">
            <a:avLst/>
          </a:prstGeom>
          <a:solidFill>
            <a:srgbClr val="a2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5" name="TextBox 181"/>
          <p:cNvSpPr/>
          <p:nvPr/>
        </p:nvSpPr>
        <p:spPr>
          <a:xfrm>
            <a:off x="7070760" y="2768760"/>
            <a:ext cx="8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PI_RUN2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=n</a:t>
            </a:r>
            <a:endParaRPr b="0" lang="en-US" sz="1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6" name="TextBox 182"/>
          <p:cNvSpPr/>
          <p:nvPr/>
        </p:nvSpPr>
        <p:spPr>
          <a:xfrm>
            <a:off x="6654960" y="224640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7" name="TextBox 183"/>
          <p:cNvSpPr/>
          <p:nvPr/>
        </p:nvSpPr>
        <p:spPr>
          <a:xfrm>
            <a:off x="6654960" y="282240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8" name="Freeform 187"/>
          <p:cNvSpPr/>
          <p:nvPr/>
        </p:nvSpPr>
        <p:spPr>
          <a:xfrm>
            <a:off x="5513400" y="2093760"/>
            <a:ext cx="517680" cy="8892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  <a:headEnd len="med" type="triangle" w="med"/>
            <a:tailEnd len="med" type="triangle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9" name="Freeform 188"/>
          <p:cNvSpPr/>
          <p:nvPr/>
        </p:nvSpPr>
        <p:spPr>
          <a:xfrm>
            <a:off x="6654960" y="2138400"/>
            <a:ext cx="515880" cy="8892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  <a:headEnd len="med" type="triangle" w="med"/>
            <a:tailEnd len="med" type="triangle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0" name="Freeform 189"/>
          <p:cNvSpPr/>
          <p:nvPr/>
        </p:nvSpPr>
        <p:spPr>
          <a:xfrm>
            <a:off x="5589720" y="2505240"/>
            <a:ext cx="422280" cy="28548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  <a:headEnd len="med" type="triangle" w="med"/>
            <a:tailEnd len="med" type="triangle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1" name="Freeform 190"/>
          <p:cNvSpPr/>
          <p:nvPr/>
        </p:nvSpPr>
        <p:spPr>
          <a:xfrm>
            <a:off x="6418440" y="2565360"/>
            <a:ext cx="101520" cy="16020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  <a:headEnd len="med" type="triangle" w="med"/>
            <a:tailEnd len="med" type="triangle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6675480" y="2489040"/>
            <a:ext cx="492120" cy="320760"/>
          </a:xfrm>
          <a:prstGeom prst="pie">
            <a:avLst/>
          </a:prstGeom>
          <a:noFill/>
          <a:ln w="25560">
            <a:solidFill>
              <a:srgbClr val="bbe0e3"/>
            </a:solidFill>
            <a:miter/>
            <a:headEnd len="med" type="triangle" w="med"/>
            <a:tailEnd len="med" type="triangle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3" name="TextBox 193"/>
          <p:cNvSpPr/>
          <p:nvPr/>
        </p:nvSpPr>
        <p:spPr>
          <a:xfrm>
            <a:off x="5702400" y="3193920"/>
            <a:ext cx="25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otion correction xforms from 3dvolreg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4" name="TextBox 194"/>
          <p:cNvSpPr/>
          <p:nvPr/>
        </p:nvSpPr>
        <p:spPr>
          <a:xfrm>
            <a:off x="5991120" y="1157400"/>
            <a:ext cx="1631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ructural-functional alignment from align_epi_anat.py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affine)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5" name="Straight Connector 198"/>
          <p:cNvSpPr/>
          <p:nvPr/>
        </p:nvSpPr>
        <p:spPr>
          <a:xfrm flipV="1">
            <a:off x="5951520" y="1531440"/>
            <a:ext cx="1803240" cy="1800"/>
          </a:xfrm>
          <a:prstGeom prst="line">
            <a:avLst/>
          </a:prstGeom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6" name="Trapezoid 184"/>
          <p:cNvSpPr/>
          <p:nvPr/>
        </p:nvSpPr>
        <p:spPr>
          <a:xfrm>
            <a:off x="7658280" y="1185840"/>
            <a:ext cx="900000" cy="703440"/>
          </a:xfrm>
          <a:prstGeom prst="pie">
            <a:avLst/>
          </a:prstGeom>
          <a:solidFill>
            <a:srgbClr val="ffd2a9"/>
          </a:solidFill>
          <a:ln w="9360">
            <a:solidFill>
              <a:srgbClr val="80808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7" name="TextBox 185"/>
          <p:cNvSpPr/>
          <p:nvPr/>
        </p:nvSpPr>
        <p:spPr>
          <a:xfrm>
            <a:off x="7659720" y="1309680"/>
            <a:ext cx="91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surfer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. (Atlas)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8" name="TextBox 207"/>
          <p:cNvSpPr/>
          <p:nvPr/>
        </p:nvSpPr>
        <p:spPr>
          <a:xfrm>
            <a:off x="7132680" y="5600880"/>
            <a:ext cx="1762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nown or User-defined transformations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9" name="Left-Right Arrow 208"/>
          <p:cNvSpPr/>
          <p:nvPr/>
        </p:nvSpPr>
        <p:spPr>
          <a:xfrm>
            <a:off x="7613640" y="6124680"/>
            <a:ext cx="387360" cy="126720"/>
          </a:xfrm>
          <a:prstGeom prst="leftRightArrow">
            <a:avLst>
              <a:gd name="adj1" fmla="val 50000"/>
              <a:gd name="adj2" fmla="val 50112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0" name="TextBox 209"/>
          <p:cNvSpPr/>
          <p:nvPr/>
        </p:nvSpPr>
        <p:spPr>
          <a:xfrm>
            <a:off x="7942320" y="6031080"/>
            <a:ext cx="120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1" name="Straight Connector 211"/>
          <p:cNvSpPr/>
          <p:nvPr/>
        </p:nvSpPr>
        <p:spPr>
          <a:xfrm>
            <a:off x="7620120" y="6521400"/>
            <a:ext cx="398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2" name="TextBox 212"/>
          <p:cNvSpPr/>
          <p:nvPr/>
        </p:nvSpPr>
        <p:spPr>
          <a:xfrm>
            <a:off x="7950240" y="6302520"/>
            <a:ext cx="116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me space / Identity xform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3" name="TextBox 93"/>
          <p:cNvSpPr/>
          <p:nvPr/>
        </p:nvSpPr>
        <p:spPr>
          <a:xfrm>
            <a:off x="619200" y="2803680"/>
            <a:ext cx="67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I 1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4" name="TextBox 94"/>
          <p:cNvSpPr/>
          <p:nvPr/>
        </p:nvSpPr>
        <p:spPr>
          <a:xfrm>
            <a:off x="1676520" y="2824200"/>
            <a:ext cx="66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I 2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5" name="TextBox 95"/>
          <p:cNvSpPr/>
          <p:nvPr/>
        </p:nvSpPr>
        <p:spPr>
          <a:xfrm>
            <a:off x="2886120" y="2824200"/>
            <a:ext cx="66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I m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cxnSp>
        <p:nvCxnSpPr>
          <p:cNvPr id="376" name="Straight Arrow Connector 99"/>
          <p:cNvCxnSpPr>
            <a:stCxn id="315" idx="6"/>
            <a:endCxn id="341" idx="2"/>
          </p:cNvCxnSpPr>
          <p:nvPr/>
        </p:nvCxnSpPr>
        <p:spPr>
          <a:xfrm>
            <a:off x="1590480" y="1525680"/>
            <a:ext cx="3167640" cy="2160"/>
          </a:xfrm>
          <a:prstGeom prst="straightConnector1">
            <a:avLst/>
          </a:prstGeom>
          <a:ln w="38160">
            <a:solidFill>
              <a:srgbClr val="006c50"/>
            </a:solidFill>
            <a:miter/>
            <a:tailEnd len="med" type="arrow" w="med"/>
          </a:ln>
        </p:spPr>
      </p:cxnSp>
      <p:cxnSp>
        <p:nvCxnSpPr>
          <p:cNvPr id="377" name="Curved Connector 59"/>
          <p:cNvCxnSpPr/>
          <p:nvPr/>
        </p:nvCxnSpPr>
        <p:spPr>
          <a:xfrm>
            <a:off x="5567400" y="1849320"/>
            <a:ext cx="659520" cy="302400"/>
          </a:xfrm>
          <a:prstGeom prst="curvedConnector2">
            <a:avLst/>
          </a:prstGeom>
          <a:ln w="25560">
            <a:solidFill>
              <a:srgbClr val="bbe0e3"/>
            </a:solidFill>
            <a:miter/>
            <a:tailEnd len="lg" type="triangle" w="med"/>
          </a:ln>
        </p:spPr>
      </p:cxnSp>
      <p:sp>
        <p:nvSpPr>
          <p:cNvPr id="378" name="Straight Connector 106"/>
          <p:cNvSpPr/>
          <p:nvPr/>
        </p:nvSpPr>
        <p:spPr>
          <a:xfrm flipH="1">
            <a:off x="1951200" y="2571840"/>
            <a:ext cx="792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9" name="TextBox 87"/>
          <p:cNvSpPr/>
          <p:nvPr/>
        </p:nvSpPr>
        <p:spPr>
          <a:xfrm>
            <a:off x="304920" y="3768840"/>
            <a:ext cx="6634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gn_epi_anat a2 to e2 =&gt; a2e2.aff12.1D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gn_epi_anat a1 to a2 =&gt; a1a2.aff12.1D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gn_epi_anat L1 to a1 =&gt; L1a1.aff12.1D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_matvec a2e2.aff12.1D  a1a2.aff12.1D  L1a1.aff12.1D  &gt; L1e2.aff12.1D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Allineate  -1Dmatrix_apply  L1e2.aff12.1D –final NN –prefix ROI1_e2 \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ase  epi_run1+orig'[1]'  –input ROI1+orig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0" name="TextBox 88"/>
          <p:cNvSpPr/>
          <p:nvPr/>
        </p:nvSpPr>
        <p:spPr>
          <a:xfrm>
            <a:off x="1380960" y="5049720"/>
            <a:ext cx="1057320" cy="3682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2 -&gt; a2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1" name="TextBox 90"/>
          <p:cNvSpPr/>
          <p:nvPr/>
        </p:nvSpPr>
        <p:spPr>
          <a:xfrm>
            <a:off x="2641680" y="5049720"/>
            <a:ext cx="1057320" cy="3682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2 -&gt; a1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2" name="TextBox 91"/>
          <p:cNvSpPr/>
          <p:nvPr/>
        </p:nvSpPr>
        <p:spPr>
          <a:xfrm>
            <a:off x="3921120" y="5049720"/>
            <a:ext cx="1057320" cy="3682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 -&gt; L1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3" name="TextBox 92"/>
          <p:cNvSpPr/>
          <p:nvPr/>
        </p:nvSpPr>
        <p:spPr>
          <a:xfrm>
            <a:off x="5405400" y="5049720"/>
            <a:ext cx="1055880" cy="3682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2 -&gt; L1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4" name="Right Arrow 93"/>
          <p:cNvSpPr/>
          <p:nvPr/>
        </p:nvSpPr>
        <p:spPr>
          <a:xfrm>
            <a:off x="2459160" y="5160960"/>
            <a:ext cx="172800" cy="18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5" name="Right Arrow 94"/>
          <p:cNvSpPr/>
          <p:nvPr/>
        </p:nvSpPr>
        <p:spPr>
          <a:xfrm>
            <a:off x="3728880" y="5160960"/>
            <a:ext cx="173160" cy="18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120" y="609480"/>
            <a:ext cx="81536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2320" indent="-3045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5000"/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view and begin drawing an ROI mask (or several ROIs) on this blank anatomical overlay dataset, go to the main AFNI interface and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Switch Overlay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o be the empty anatomical dataset you will be editing.  Also turn the overlay ON with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See OverLay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3045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5000"/>
              <a:buFont typeface="Helvetic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rt drawing the ROI mask into this blank anatomical overlay dataset.  Voxels inside the ROI mask will receive a non-zero value (you decide what value to give them).  Values outside the ROI mask will remain zero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304560"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 sure to save the results by pressing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Save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SaveAs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DONE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n the ROI plugin GUI (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Quit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will exit the ROI plugin without saving your work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3045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5000"/>
              <a:buFont typeface="Times"/>
              <a:buChar char="H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vert the anatomical-resolution ROI dataset into a dataset at the resolution of the functional (statistical) datasets you want to analyze with the RO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304560">
              <a:spcBef>
                <a:spcPts val="425"/>
              </a:spcBef>
              <a:buClr>
                <a:srgbClr val="000000"/>
              </a:buClr>
              <a:buSzPct val="70000"/>
              <a:buFont typeface="Helvetic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te: The ROI and functional datasets may already be at the same resolution, if you are operating 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+tlr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ordina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304560">
              <a:spcBef>
                <a:spcPts val="425"/>
              </a:spcBef>
              <a:buClr>
                <a:srgbClr val="000000"/>
              </a:buClr>
              <a:buSzPct val="70000"/>
              <a:buFont typeface="Helvetic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olution conversion of masks is done with program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Courier New"/>
              </a:rPr>
              <a:t>3dfractioniz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3045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5000"/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programs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Courier New"/>
              </a:rPr>
              <a:t>3dmaska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Courier New"/>
              </a:rPr>
              <a:t>3dmaskdum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Courier New"/>
              </a:rPr>
              <a:t>3dROIstat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o extract ROI-based information about functional datas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304560"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so can use the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Courier New"/>
              </a:rPr>
              <a:t>ROI Aver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plugin to extract interactively the average of a dataset over a ROI (does the same thing as 3dmaskav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7" descr=""/>
          <p:cNvPicPr/>
          <p:nvPr/>
        </p:nvPicPr>
        <p:blipFill>
          <a:blip r:embed="rId1"/>
          <a:stretch/>
        </p:blipFill>
        <p:spPr>
          <a:xfrm>
            <a:off x="2238480" y="1295280"/>
            <a:ext cx="4065480" cy="3048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5257800" cy="53352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Drawing Plu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800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Critical things to rememb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should have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See OverLay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urned on, and be viewing the same overlay dataset in AFNI as you are edi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44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wise, you won’t see anything when you ed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360" indent="-21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drawing, you are putting numbers into a dataset b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44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numbers are written to disk only when you do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Save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SaveAs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Done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before then, you can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Quit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exit AFNI) to get the unedited dataset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48720" y="762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7797960" y="1650960"/>
            <a:ext cx="583920" cy="863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6477120" y="1523880"/>
            <a:ext cx="1371600" cy="806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How to copy dataset when “Copy” button is active: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620120" y="1143000"/>
            <a:ext cx="1371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opy data, or fill with zero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543800" y="2486160"/>
            <a:ext cx="14479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Edit in Overlay/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Underlay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 flipH="1">
            <a:off x="6705360" y="1066680"/>
            <a:ext cx="1066680" cy="381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 flipH="1">
            <a:off x="3657240" y="1447920"/>
            <a:ext cx="3048120" cy="26028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" name="Line 13"/>
          <p:cNvSpPr/>
          <p:nvPr/>
        </p:nvSpPr>
        <p:spPr>
          <a:xfrm flipH="1" flipV="1">
            <a:off x="4723920" y="1904760"/>
            <a:ext cx="1600200" cy="5331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324480" y="2521080"/>
            <a:ext cx="1524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olor to display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while drawing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 flipH="1" flipV="1">
            <a:off x="3428640" y="2514240"/>
            <a:ext cx="2971800" cy="2286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400800" y="3081240"/>
            <a:ext cx="2362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ll between drawing planes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 flipH="1" flipV="1">
            <a:off x="6324120" y="2438280"/>
            <a:ext cx="1295640" cy="1526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00800" y="3490920"/>
            <a:ext cx="259092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hoose Atlas Region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6400800" y="3691080"/>
            <a:ext cx="259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ctually load TT Atlas Region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6400800" y="3919680"/>
            <a:ext cx="2514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ave edits &amp; continue editing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6477120" y="4224240"/>
            <a:ext cx="2361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ave edits into new dataset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6324480" y="4516560"/>
            <a:ext cx="2362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one = Save &amp; Quit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 flipH="1" flipV="1">
            <a:off x="4952880" y="3124080"/>
            <a:ext cx="1371600" cy="7632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" name="Line 24"/>
          <p:cNvSpPr/>
          <p:nvPr/>
        </p:nvSpPr>
        <p:spPr>
          <a:xfrm flipH="1">
            <a:off x="4572000" y="3505320"/>
            <a:ext cx="1752480" cy="759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" name="Line 25"/>
          <p:cNvSpPr/>
          <p:nvPr/>
        </p:nvSpPr>
        <p:spPr>
          <a:xfrm flipH="1">
            <a:off x="3962160" y="3809880"/>
            <a:ext cx="2361960" cy="152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Line 26"/>
          <p:cNvSpPr/>
          <p:nvPr/>
        </p:nvSpPr>
        <p:spPr>
          <a:xfrm flipH="1">
            <a:off x="5562720" y="3809880"/>
            <a:ext cx="761760" cy="152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" name="Line 27"/>
          <p:cNvSpPr/>
          <p:nvPr/>
        </p:nvSpPr>
        <p:spPr>
          <a:xfrm flipH="1">
            <a:off x="4800240" y="4038480"/>
            <a:ext cx="1523880" cy="152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Line 28"/>
          <p:cNvSpPr/>
          <p:nvPr/>
        </p:nvSpPr>
        <p:spPr>
          <a:xfrm flipH="1" flipV="1">
            <a:off x="6019560" y="4343040"/>
            <a:ext cx="228600" cy="30492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" name="Line 29"/>
          <p:cNvSpPr/>
          <p:nvPr/>
        </p:nvSpPr>
        <p:spPr>
          <a:xfrm flipH="1" flipV="1">
            <a:off x="5867280" y="4114440"/>
            <a:ext cx="609840" cy="152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152280" y="2720880"/>
            <a:ext cx="914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How to draw into dataset voxels: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" name="Text Box 31"/>
          <p:cNvSpPr/>
          <p:nvPr/>
        </p:nvSpPr>
        <p:spPr>
          <a:xfrm>
            <a:off x="304920" y="1371600"/>
            <a:ext cx="198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ata being edited now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228600" y="1981080"/>
            <a:ext cx="198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Edit new dataset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304920" y="1676520"/>
            <a:ext cx="198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Edit copy of dataset?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152280" y="2230560"/>
            <a:ext cx="2133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 given to ROI voxels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" name="Text Box 35"/>
          <p:cNvSpPr/>
          <p:nvPr/>
        </p:nvSpPr>
        <p:spPr>
          <a:xfrm>
            <a:off x="1447920" y="4572000"/>
            <a:ext cx="198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Undo or Redo edits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Text Box 36"/>
          <p:cNvSpPr/>
          <p:nvPr/>
        </p:nvSpPr>
        <p:spPr>
          <a:xfrm>
            <a:off x="3505320" y="4572000"/>
            <a:ext cx="2133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Exit without saving edits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0" name="Line 37"/>
          <p:cNvSpPr/>
          <p:nvPr/>
        </p:nvSpPr>
        <p:spPr>
          <a:xfrm>
            <a:off x="1981080" y="1523880"/>
            <a:ext cx="22860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Line 38"/>
          <p:cNvSpPr/>
          <p:nvPr/>
        </p:nvSpPr>
        <p:spPr>
          <a:xfrm>
            <a:off x="1905120" y="1828800"/>
            <a:ext cx="30456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2" name="Line 39"/>
          <p:cNvSpPr/>
          <p:nvPr/>
        </p:nvSpPr>
        <p:spPr>
          <a:xfrm flipV="1">
            <a:off x="1523880" y="2057400"/>
            <a:ext cx="685800" cy="7632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3" name="Line 40"/>
          <p:cNvSpPr/>
          <p:nvPr/>
        </p:nvSpPr>
        <p:spPr>
          <a:xfrm>
            <a:off x="2057400" y="2362320"/>
            <a:ext cx="1522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4" name="Line 41"/>
          <p:cNvSpPr/>
          <p:nvPr/>
        </p:nvSpPr>
        <p:spPr>
          <a:xfrm flipV="1">
            <a:off x="2438280" y="4266720"/>
            <a:ext cx="76320" cy="381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5" name="Line 42"/>
          <p:cNvSpPr/>
          <p:nvPr/>
        </p:nvSpPr>
        <p:spPr>
          <a:xfrm flipV="1">
            <a:off x="2438280" y="4266720"/>
            <a:ext cx="685800" cy="381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6" name="Line 44"/>
          <p:cNvSpPr/>
          <p:nvPr/>
        </p:nvSpPr>
        <p:spPr>
          <a:xfrm flipV="1">
            <a:off x="4191120" y="4266720"/>
            <a:ext cx="0" cy="381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7" name="Line 45"/>
          <p:cNvSpPr/>
          <p:nvPr/>
        </p:nvSpPr>
        <p:spPr>
          <a:xfrm>
            <a:off x="1828800" y="2743200"/>
            <a:ext cx="3808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8" name="Line 46"/>
          <p:cNvSpPr/>
          <p:nvPr/>
        </p:nvSpPr>
        <p:spPr>
          <a:xfrm flipH="1">
            <a:off x="5410080" y="4114800"/>
            <a:ext cx="457200" cy="7632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9" name="Text Box 47"/>
          <p:cNvSpPr/>
          <p:nvPr/>
        </p:nvSpPr>
        <p:spPr>
          <a:xfrm>
            <a:off x="6477120" y="5410080"/>
            <a:ext cx="23619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bd0d4d"/>
                </a:solidFill>
                <a:latin typeface="Times New Roman"/>
              </a:rPr>
              <a:t>Keys 'o' and 'u' and scroll wheel come in handy here</a:t>
            </a:r>
            <a:endParaRPr b="0" lang="en-US" sz="1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0" name="Picture 48" descr=""/>
          <p:cNvPicPr/>
          <p:nvPr/>
        </p:nvPicPr>
        <p:blipFill>
          <a:blip r:embed="rId4"/>
          <a:srcRect l="0" t="11115" r="0" b="11115"/>
          <a:stretch/>
        </p:blipFill>
        <p:spPr>
          <a:xfrm>
            <a:off x="1143000" y="2514600"/>
            <a:ext cx="888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tep 1: Load a dataset to be edited (for ROI creation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Choose Dataset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button gives you a list of datasets th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 Actually have brick data with only one sub-brick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b) Are at the same voxel dimension, grid size, etc., as current anatomical underl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n you are starting, you probably don’t want to edit an existing dataset --  i.e., you don’t want to write on the underlay itself; you just want to use it as a template and draw on a blank overlay that shares the same geometry as that existing underlay datas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do this, you must create an all-zero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f the anatomical underlay (by “copy” we mean the all-zero dataset shares the same geometry as the underlay, but not the same voxel data valu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create an all-zero copy, click the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Copy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button on (from the       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Courier New"/>
              </a:rPr>
              <a:t>Draw Datase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ugin GUI) and set the controls to its right to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Zero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 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Show as Olay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As Is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9760" indent="-1699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Zapf Dingba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Data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would make a copy of the underlay dataset with the actual voxel data values. 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Zero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pies the geometry of underlay, but gives each voxel a data value of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this latter option is usually what you want when starting ou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1094040" indent="-16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Zapf Dingba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As Is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eps the voxel values in the copy as the same type as in the original underlay; you can also change the voxel values to be stored 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68360" indent="-164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Byte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ger values: 0..255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 byte 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68360" indent="-164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Short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ger values: -32767…32767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 bytes 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68360" indent="-164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Float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fractional value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4 bytes 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68360" indent="-164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s and Shorts make the most sense for ROI masks, where you are essentially attaching labels to vox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1160" indent="-16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Choose Dataset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elect the dataset you want a copy of (e.g., the anatomical underlay), and then press 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600" spc="-1" strike="noStrike" u="sng">
                <a:solidFill>
                  <a:srgbClr val="0602ff"/>
                </a:solidFill>
                <a:uFillTx/>
                <a:latin typeface="Courier New"/>
              </a:rPr>
              <a:t>Set</a:t>
            </a:r>
            <a:r>
              <a:rPr b="1" lang="en-US" sz="1600" spc="-1" strike="noStrike">
                <a:solidFill>
                  <a:srgbClr val="e9130b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tep 2: Drawing the ROI (or ROI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840" indent="-213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hoose the value to draw into the anatomical overlay data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recall that all values in the copied/blank overlay dataset are zero at this po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1160" indent="-16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drawing only one ROI, then the default value of 1 is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1160" indent="-16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ase with value of zer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1160" indent="-16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are drawing multiple ROIs, then you should choose a different numerical value for each so that they can be distinguished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94040" indent="-16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Zapf Dingba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cil and paper are our friends -- write down which number corresponds with which ROI for later reca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840" indent="-213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ould use ROI color maps (this is now the defaul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1160" indent="-16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the '**' map. Set 'pos' 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1160" indent="-16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lick on colormap --&gt; Choose Colorscale --&gt; ROI_i256 (or ROI_innn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1160" indent="-16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'autoRange' off. Set range to 2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840" indent="-213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hoose the drawing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1160" indent="-16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color that is show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ile you are dra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5720" indent="-1713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fter you finish a drawing motion, the voxels you drew will be filled with the drawing value, the image will be redisplayed, and the colors will be determined by the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Define OverLay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ol pa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hoose the drawing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Filled Curve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rawing action produces a continuous closed-ended curve (default sett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Open Curve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rawing action produces a continuous open-ended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Closed Curve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rawing action produces a continuous closed-ended cur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Zapf Dingba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[</a:t>
            </a:r>
            <a:r>
              <a:rPr b="1" lang="en-US" sz="1700" spc="-1" strike="noStrike" u="sng">
                <a:solidFill>
                  <a:srgbClr val="0602ff"/>
                </a:solidFill>
                <a:uFillTx/>
                <a:latin typeface="Courier New"/>
              </a:rPr>
              <a:t>Points</a:t>
            </a:r>
            <a:r>
              <a:rPr b="1" lang="en-US" sz="1700" spc="-1" strike="noStrike">
                <a:solidFill>
                  <a:srgbClr val="e9130b"/>
                </a:solidFill>
                <a:latin typeface="Courier New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ly points actually drawn over are filled (used to “touch up” and RO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666880" y="3657600"/>
            <a:ext cx="3733920" cy="3059280"/>
          </a:xfrm>
          <a:prstGeom prst="rect">
            <a:avLst/>
          </a:prstGeom>
          <a:ln w="22320">
            <a:solidFill>
              <a:srgbClr val="ffcc00"/>
            </a:solidFill>
            <a:miter/>
          </a:ln>
        </p:spPr>
      </p:pic>
      <p:sp>
        <p:nvSpPr>
          <p:cNvPr id="115" name="Text Box 7"/>
          <p:cNvSpPr/>
          <p:nvPr/>
        </p:nvSpPr>
        <p:spPr>
          <a:xfrm>
            <a:off x="6781680" y="4098960"/>
            <a:ext cx="137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[Points]</a:t>
            </a:r>
            <a:endParaRPr b="0" lang="en-US" sz="15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553080" y="524196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[Filled Curve]</a:t>
            </a:r>
            <a:endParaRPr b="0" lang="en-US" sz="15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09480" y="486108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[Open Curve]</a:t>
            </a:r>
            <a:endParaRPr b="0" lang="en-US" sz="15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09480" y="39625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[Closed Curve]</a:t>
            </a:r>
            <a:endParaRPr b="0" lang="en-US" sz="15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2362320" y="4114800"/>
            <a:ext cx="1447560" cy="15228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2133720" y="4952880"/>
            <a:ext cx="990360" cy="7632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5714640" y="4267080"/>
            <a:ext cx="114300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2" name="Line 14"/>
          <p:cNvSpPr/>
          <p:nvPr/>
        </p:nvSpPr>
        <p:spPr>
          <a:xfrm flipH="1" flipV="1">
            <a:off x="5562360" y="5333760"/>
            <a:ext cx="1066680" cy="7596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16:00:42Z</dcterms:created>
  <dc:creator>Patricia Christidis</dc:creator>
  <dc:description/>
  <cp:keywords/>
  <dc:language>en-US</dc:language>
  <cp:lastModifiedBy>Office 2004 Test Drive User</cp:lastModifiedBy>
  <cp:lastPrinted>2014-09-05T21:46:12Z</cp:lastPrinted>
  <dcterms:modified xsi:type="dcterms:W3CDTF">2014-10-02T16:19:02Z</dcterms:modified>
  <cp:revision>381</cp:revision>
  <dc:subject/>
  <dc:title>PowerPoint Presentation</dc:title>
</cp:coreProperties>
</file>